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4.png" ContentType="image/png"/>
  <Override PartName="/ppt/media/image3.jpeg" ContentType="image/jpeg"/>
  <Override PartName="/ppt/media/image24.jpeg" ContentType="image/jpeg"/>
  <Override PartName="/ppt/media/image25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ONLY%20YOU.WAV" ContentType="audio/x-wav"/>
  <Override PartName="/ppt/media/image23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4F5C-7B3C-4FD5-AED9-53A1B26B1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C0EF-49B0-4E16-B98A-DF0DB551A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8B0D-ADEF-4429-B956-34357D1B0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19CB-AD34-473C-8170-477D4797C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037E-836E-4841-A80D-34A59D4DB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F4C7-2AB2-48F0-BE64-832D26EBB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FA17-55D1-4F64-9E0D-6BD436451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944D-EF13-461A-ABB9-3E20836FE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1390-C1EC-4FAA-B106-CCC97CAD8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B237-4AC8-4956-8E1B-EE9240564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0BC0-F734-41A8-B2BA-BFB6B45D0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1B40-2D40-4CB3-90BC-F355C881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28A2F-5771-4DBF-85DF-3217755CBD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ONLY%20YOU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19080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opType Soncino"/>
              </a:rPr>
              <a:t>N. S. U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opType Soncino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11280" y="1989000"/>
            <a:ext cx="7924680" cy="4077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נוסטלגיה אונליין-שימור התרבות הישראלית www.nostal.co.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F13A-CAFA-42CE-A4CB-98FD1E52B8D5}" type="slidenum">
              <a:t>1</a:t>
            </a:fld>
          </a:p>
        </p:txBody>
      </p:sp>
    </p:spTree>
  </p:cSld>
  <p:transition spd="med">
    <p:random/>
    <p:sndAc>
      <p:stSnd>
        <p:snd r:embed="rId2" name="ONLY%20YOU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444760" y="1644480"/>
            <a:ext cx="4254480" cy="35690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332000" y="476280"/>
            <a:ext cx="6840360" cy="865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E U G E O T  4 0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000080" y="243000"/>
            <a:ext cx="7143840" cy="6372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55640" y="1844640"/>
            <a:ext cx="7704000" cy="4094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050920" y="476280"/>
            <a:ext cx="4826160" cy="865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. S . 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15494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opType Soncino"/>
              </a:rPr>
              <a:t>H E R A L 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6400800" cy="40561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9000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opType Soncino"/>
              </a:rPr>
              <a:t>M U S T A N G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opType Soncino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258920" y="1628640"/>
            <a:ext cx="6576840" cy="45640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198108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opType Soncino"/>
              </a:rPr>
              <a:t>S A A B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opType Soncino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042920" y="1538280"/>
            <a:ext cx="7274160" cy="5092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1908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opType Soncino"/>
              </a:rPr>
              <a:t>S A B R 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opType Soncino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6051600" cy="47196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17654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opType Soncino"/>
              </a:rPr>
              <a:t>S U B A R U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opType Soncino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7696080" cy="3405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17654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opType Soncino"/>
              </a:rPr>
              <a:t>S U S I T 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opType Soncino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5410080" cy="40338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1476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opType Soncino"/>
              </a:rPr>
              <a:t>C I T R O E N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opType Soncino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619280" y="1844640"/>
            <a:ext cx="5830920" cy="4495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1692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opType Soncino"/>
              </a:rPr>
              <a:t>C A R M E 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7345440" cy="4908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85800" y="617220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104472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opType Soncino"/>
              </a:rPr>
              <a:t>S I M C 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opType Soncino"/>
              </a:rPr>
              <a:t>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447920" y="1981080"/>
            <a:ext cx="6095880" cy="40705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opType Soncino"/>
              </a:rPr>
              <a:t>P O N T I A C  F I R E  B I R 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447920" y="1981080"/>
            <a:ext cx="6248160" cy="41706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90000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opType Soncino"/>
              </a:rPr>
              <a:t>F O R D   C A P R 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116000" y="1700280"/>
            <a:ext cx="6792840" cy="4481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1692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opType Soncino"/>
              </a:rPr>
              <a:t>F I A T  6 0 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5410440" cy="4050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104472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opType Soncino"/>
              </a:rPr>
              <a:t>V A L I A N T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opType Soncino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7620120" cy="3976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1476360" y="620640"/>
            <a:ext cx="777240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opType Soncino"/>
              </a:rPr>
              <a:t>C O N T E S 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opType Soncino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7086600" cy="4067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46836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opType Soncino"/>
              </a:rPr>
              <a:t>I S E T A – B. M. W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opType Soncino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86000" y="1752480"/>
            <a:ext cx="4408560" cy="4629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6337440" cy="5075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4000" y="549360"/>
            <a:ext cx="4753080" cy="431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E U G E O T   4 0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8064720" cy="3710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268360" y="549360"/>
            <a:ext cx="431964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 O D G E  -  V A L I A N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26920" y="1700280"/>
            <a:ext cx="7272360" cy="42861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124000" y="549360"/>
            <a:ext cx="4824360" cy="718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U B A R 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116000" y="1700280"/>
            <a:ext cx="6697800" cy="36496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692360" y="620640"/>
            <a:ext cx="5327640" cy="504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 P E L   R E K O R D  C A R A V A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opType Soncino"/>
              </a:rPr>
              <a:t>C I T R O E N  2 C V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371600" y="1963800"/>
            <a:ext cx="5638680" cy="40813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476360" y="1898640"/>
            <a:ext cx="6335640" cy="41036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987640" y="476280"/>
            <a:ext cx="2736720" cy="865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 E E P  W I L L I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3T08:17:52Z</dcterms:created>
  <dc:creator/>
  <dc:description/>
  <dc:language>en-US</dc:language>
  <cp:lastModifiedBy>Alberto</cp:lastModifiedBy>
  <dcterms:modified xsi:type="dcterms:W3CDTF">2005-08-31T15:51:14Z</dcterms:modified>
  <cp:revision>41</cp:revision>
  <dc:subject/>
  <dc:title/>
</cp:coreProperties>
</file>