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ONLY%20YOU.WAV" ContentType="audio/x-wav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2E2-4F67-4EC3-BFDD-4AA58336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4DE-4E34-4DAF-A282-91F35321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465-C5E7-4E89-A72D-19A825A9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CDF-BB08-49F9-810E-B3E60620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A50-7F74-437F-9164-D0E562BF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15D-A1F7-4368-A505-48D0A208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C98-94D9-45E1-B9F9-265AA9DE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E89-8DB2-4354-910C-E0CBAB5F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EB8-CFD9-42AF-991D-A276CE18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6FB-2790-4FD0-B413-885CC55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0A3-51BB-4169-9E06-D34A44D6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D88-7AF2-49D4-B75A-A8068D6E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AEED-BD0A-4358-A40B-688EFE7D1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NLY%20YO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9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N. S. 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2468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נוסטלגיה אונליין-שימור התרבות הישראלית www.nostal.co.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11C-CD1C-411F-9E47-FD175926F1A1}" type="slidenum">
              <a:t>1</a:t>
            </a:fld>
          </a:p>
        </p:txBody>
      </p:sp>
    </p:spTree>
  </p:cSld>
  <p:transition spd="med">
    <p:random/>
    <p:sndAc>
      <p:stSnd>
        <p:snd r:embed="rId2" name="ONLY%20YO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44760" y="1644480"/>
            <a:ext cx="4254480" cy="356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32000" y="476280"/>
            <a:ext cx="684036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E U G E O T  4 0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00080" y="243000"/>
            <a:ext cx="7143840" cy="637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704000" cy="409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50920" y="476280"/>
            <a:ext cx="482616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 S .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5494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H E R A L 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00800" cy="4056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M U S T A N 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576840" cy="456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810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A A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7274160" cy="5092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908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A B R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51600" cy="4719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7654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U B A R 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696080" cy="3405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7654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U S I T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41008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476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C I T R O E 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83092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692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C A R M E 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345440" cy="490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6172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0447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I M C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P O N T I A C  F I R E  B I R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17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F O R D   C A P R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792840" cy="44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692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F I A T  6 0 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05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0447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V A L I A N 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620120" cy="397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476360" y="62064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C O N T E S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8660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I S E T A – B. M. 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408560" cy="4629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337440" cy="507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4000" y="549360"/>
            <a:ext cx="475308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E U G E O T   4 0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3710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68360" y="549360"/>
            <a:ext cx="431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O D G E  -  V A L I A 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2723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49360"/>
            <a:ext cx="4824360" cy="71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U B A R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9780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92360" y="620640"/>
            <a:ext cx="532764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P E L   R E K O R D  C A R A V A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C I T R O E N  2 C 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1963800"/>
            <a:ext cx="5638680" cy="4081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898640"/>
            <a:ext cx="633564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87640" y="476280"/>
            <a:ext cx="273672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E E P  W I L L I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08:17:52Z</dcterms:created>
  <dc:creator/>
  <dc:description/>
  <dc:language>en-US</dc:language>
  <cp:lastModifiedBy>Alberto</cp:lastModifiedBy>
  <dcterms:modified xsi:type="dcterms:W3CDTF">2005-08-31T15:51:14Z</dcterms:modified>
  <cp:revision>41</cp:revision>
  <dc:subject/>
  <dc:title/>
</cp:coreProperties>
</file>