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E8B-45CC-46B2-B880-2D88F59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AE1-3C34-4675-9D6D-7542B6EF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1EC-302E-4BDC-98D5-B3F0D6DF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CBA-72A8-4D20-B616-FB6E2C9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908-016B-49DB-A806-F9EDD4F2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58F-D763-47FD-93FD-77E4205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104-B5D8-4A82-8A0C-84C762A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3AC-EAAD-4BA0-9762-FC209EB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926-716D-4733-AF38-12FD2F5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ABB-22E8-41B2-B9A1-344CC3B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31E-9104-42B4-AEA3-73E0936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D9B-4C2E-447E-A435-769A669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19CD-42BC-4329-937A-0B26AABAD2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464832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ff"/>
                </a:solidFill>
                <a:latin typeface="Times New Roman"/>
              </a:rPr>
              <a:t>Als je veel problemen hebt die je hoofdpijn bezorgen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6924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Jester"/>
              </a:rPr>
              <a:t>Je zal begrijpen dat de hemel zich opent voor hen die geloven in een betere toekomst en ervoor willen vechten ...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Jester"/>
              </a:rPr>
              <a:t>Maak uw dromen waar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4952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094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99"/>
                </a:solidFill>
                <a:latin typeface="Jester"/>
              </a:rPr>
              <a:t>Ik wens je een mooie zonnige da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907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66"/>
                </a:solidFill>
                <a:latin typeface="Jester"/>
              </a:rPr>
              <a:t>En je denkt dat je leven aan een koortje hangt 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608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Jester"/>
              </a:rPr>
              <a:t>Je ziet dat je verouderd en je huid rimpels krijgt ...</a:t>
            </a:r>
            <a:r>
              <a:rPr b="0" lang="es-MX" sz="4000" spc="-1" strike="noStrike">
                <a:solidFill>
                  <a:srgbClr val="0066ff"/>
                </a:solidFill>
                <a:latin typeface="Jest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Jester"/>
              </a:rPr>
              <a:t>En je hebt geen kracht meer om de dagelijkse gevechten aan te gaan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80880" y="2133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cc99"/>
                </a:solidFill>
                <a:latin typeface="Jester"/>
              </a:rPr>
              <a:t>Blijf dan rustig en denk even na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ecff"/>
                </a:solidFill>
                <a:latin typeface="Jester"/>
              </a:rPr>
              <a:t>Aan je vrienden en aan hen die van je houden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86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ecff"/>
                </a:solidFill>
                <a:latin typeface="Jester"/>
              </a:rPr>
              <a:t>Denk aan alle prachtige momenten van het leven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ff99"/>
                </a:solidFill>
                <a:latin typeface="Jester"/>
              </a:rPr>
              <a:t>Je zal zien dat niet alles slecht en donker i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Jester"/>
              </a:rPr>
              <a:t>Blaas alle zwarte gedachten en depressies uit je hoofd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99"/>
                </a:solidFill>
                <a:latin typeface="Jester"/>
              </a:rPr>
              <a:t>En je zal zien dat de donkerste nachten klaar en helder wo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01:30:56Z</dcterms:created>
  <dc:creator>Gerald Cumberbatch</dc:creator>
  <dc:description/>
  <dc:language>en-US</dc:language>
  <cp:lastModifiedBy>Smets</cp:lastModifiedBy>
  <dcterms:modified xsi:type="dcterms:W3CDTF">2008-09-12T19:00:26Z</dcterms:modified>
  <cp:revision>27</cp:revision>
  <dc:subject/>
  <dc:title>SI LOS PROBLEMAS SON TANTOS QUE TE PROVOCAN DOLOR DE CABEZA</dc:title>
</cp:coreProperties>
</file>