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3D9-93C3-4A27-B410-BAB7E44C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2AA-6B25-4CAC-88BA-0BD3E34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A73-4783-414D-A283-CA220B21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FE4-AFE8-4477-9295-89B1C3D2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8BB-E7CA-4D53-AF53-67737C95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46C-33B8-4BF9-8F69-E85B73B7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B1B-87A8-415F-B51A-9430F500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4BC-D7C9-40A3-B9D5-CC13133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E6E-E001-4A04-AE31-30BC9001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ECD-1E39-45FD-9227-C8CA9C7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0E2-5136-4831-B86E-344C0B2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C4B-BFD9-4D6D-85B8-8DB2F2F3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BDA4-B1E7-4A46-9679-F023FD2A8E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4648320"/>
            <a:ext cx="7696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ff"/>
                </a:solidFill>
                <a:latin typeface="Times New Roman"/>
              </a:rPr>
              <a:t>Als je veel problemen hebt die je hoofdpijn bezorgen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69240" y="648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Jester"/>
              </a:rPr>
              <a:t>Je zal begrijpen dat de hemel zich opent voor hen die geloven in een betere toekomst en ervoor willen vechten ...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Jester"/>
              </a:rPr>
              <a:t>Maak uw dromen waar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4952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094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99"/>
                </a:solidFill>
                <a:latin typeface="Jester"/>
              </a:rPr>
              <a:t>Ik wens je een mooie zonnige da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907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66"/>
                </a:solidFill>
                <a:latin typeface="Jester"/>
              </a:rPr>
              <a:t>En je denkt dat je leven aan een koortje hangt 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608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267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Jester"/>
              </a:rPr>
              <a:t>Je ziet dat je verouderd en je huid rimpels krijgt ...</a:t>
            </a:r>
            <a:r>
              <a:rPr b="0" lang="es-MX" sz="4000" spc="-1" strike="noStrike">
                <a:solidFill>
                  <a:srgbClr val="0066ff"/>
                </a:solidFill>
                <a:latin typeface="Jest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Jester"/>
              </a:rPr>
              <a:t>En je hebt geen kracht meer om de dagelijkse gevechten aan te gaan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80880" y="2133720"/>
            <a:ext cx="4952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cc99"/>
                </a:solidFill>
                <a:latin typeface="Jester"/>
              </a:rPr>
              <a:t>Blijf dan rustig en denk even na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ecff"/>
                </a:solidFill>
                <a:latin typeface="Jester"/>
              </a:rPr>
              <a:t>Aan je vrienden en aan hen die van je houden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86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ecff"/>
                </a:solidFill>
                <a:latin typeface="Jester"/>
              </a:rPr>
              <a:t>Denk aan alle prachtige momenten van het leven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ff99"/>
                </a:solidFill>
                <a:latin typeface="Jester"/>
              </a:rPr>
              <a:t>Je zal zien dat niet alles slecht en donker is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Jester"/>
              </a:rPr>
              <a:t>Blaas alle zwarte gedachten en depressies uit je hoofd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99"/>
                </a:solidFill>
                <a:latin typeface="Jester"/>
              </a:rPr>
              <a:t>En je zal zien dat de donkerste nachten klaar en helder wo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01:30:56Z</dcterms:created>
  <dc:creator>Gerald Cumberbatch</dc:creator>
  <dc:description/>
  <dc:language>en-US</dc:language>
  <cp:lastModifiedBy>Smets</cp:lastModifiedBy>
  <dcterms:modified xsi:type="dcterms:W3CDTF">2008-09-12T19:00:26Z</dcterms:modified>
  <cp:revision>27</cp:revision>
  <dc:subject/>
  <dc:title>SI LOS PROBLEMAS SON TANTOS QUE TE PROVOCAN DOLOR DE CABEZA</dc:title>
</cp:coreProperties>
</file>