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AF9-9307-4361-963D-1456D3AA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DBF-61CD-417F-9E13-AA30F600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5A5-7829-4C4E-9C58-E1759386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0A8-2AB8-4399-BED0-C0558494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6DF-05E8-4F0A-B1C9-E3EF2FF0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0F9-1B0A-4D06-9CD1-363E22E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9AE-FE9D-476C-8C55-E8F6966A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5CC-AE5A-453A-BADA-9F3D627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8D4-2F1E-443B-9B6E-212CBAF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954-05C1-4C2C-ADF0-31C50DBC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EA9-BD5A-4647-978A-E8DD70E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83B-C89D-4984-B766-00626582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756-48F6-4824-879F-34EB1355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61600"/>
            <a:ext cx="8229600" cy="56754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enny Blanco"/>
              </a:rPr>
              <a:t>6. 12 :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Benny Blanco"/>
              </a:rPr>
              <a:t>FACTORS AFFECTING PHOTOSYNTHE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Bauhaus 93"/>
              </a:rPr>
              <a:t>LEARNING OUTCO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Console"/>
              </a:rPr>
              <a:t>Identify the factors affecting the rate of photosynthesi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Lucida Console"/>
              </a:rPr>
              <a:t>Identify the factor that limits the rate of photosynthesis at different light intensitie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Console"/>
              </a:rPr>
              <a:t>Explain the effects of temperature &amp; concentration of CO2 on the rate of photosynthesi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Lucida Console"/>
              </a:rPr>
              <a:t>Explain the difference in the rate of photosynthesis in plants throughout the day based on the changes in light intensity &amp; temperatur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Console"/>
              </a:rPr>
              <a:t>Identify some ways to meet the need of increasing the productivity of crops based on factors affecting the rate of photosynthe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nime Ace 2.0 BB"/>
              </a:rPr>
              <a:t>CONCENTRATION OF CO</a:t>
            </a:r>
            <a:r>
              <a:rPr b="1" lang="en-US" sz="3600" spc="-1" strike="noStrike" u="sng" baseline="-25000">
                <a:solidFill>
                  <a:srgbClr val="ffff00"/>
                </a:solidFill>
                <a:uFillTx/>
                <a:latin typeface="Anime Ace 2.0 BB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560" y="907560"/>
            <a:ext cx="5040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Conc. of CO2 in the atmosphere varies between 0.03% to 0.0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nother Typewriter"/>
              </a:rPr>
              <a:t>Light intensity &amp; temperature are kept constant </a:t>
            </a:r>
            <a:r>
              <a:rPr b="0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be0e3"/>
                </a:solidFill>
                <a:latin typeface="Another Typewriter"/>
              </a:rPr>
              <a:t> the rate of photosynthesis increases until a saturation point is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After this point, any further increase in the conc. of CO2 has no effect on the rate of 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nother Typewriter"/>
              </a:rPr>
              <a:t>Limited by other factors (light intensity), not enough to increase the rate of 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148360" y="1628640"/>
          <a:ext cx="396072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628640"/>
                    <a:ext cx="396072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Benny Blanco"/>
              </a:rPr>
              <a:t>LIGHT INT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5113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askerville Old Face"/>
              </a:rPr>
              <a:t>Temperature &amp; concentration of CO2 are kept constant, the rate of photosynthesis can be increased by increasing the light intensity up to the light saturation poi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66cc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Baskerville Old Face"/>
              </a:rPr>
              <a:t>After this point, any further increase in light intensity has no effect on the rate of photosynthesis (limiting factor : CO2 con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askerville Old Face"/>
              </a:rPr>
              <a:t>Can be increased by increasing the CO2 con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32520" y="1484280"/>
          <a:ext cx="397656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1484280"/>
                    <a:ext cx="39765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ff00"/>
                </a:solidFill>
                <a:uFillTx/>
                <a:latin typeface="Benny Blanco"/>
              </a:rPr>
              <a:t>TEMPERA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Dark reaction involves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The rate of photosynthesis increases as the temperature increase </a:t>
            </a:r>
            <a:r>
              <a:rPr b="0" lang="en-US" sz="2400" spc="-1" strike="noStrike">
                <a:solidFill>
                  <a:srgbClr val="33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 enzymes more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Optimum temp. is between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nother Typewriter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C to 3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nother Typewriter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40</a:t>
            </a:r>
            <a:r>
              <a:rPr b="0" lang="en-US" sz="2400" spc="-1" strike="noStrike" baseline="30000">
                <a:solidFill>
                  <a:srgbClr val="33ccff"/>
                </a:solidFill>
                <a:latin typeface="Another Typewriter"/>
              </a:rPr>
              <a:t>o</a:t>
            </a: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C, the rate of reaction decrease </a:t>
            </a:r>
            <a:r>
              <a:rPr b="0" lang="en-US" sz="2400" spc="-1" strike="noStrike">
                <a:solidFill>
                  <a:srgbClr val="33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 enzymes denatured </a:t>
            </a:r>
            <a:r>
              <a:rPr b="0" lang="en-US" sz="2400" spc="-1" strike="noStrike">
                <a:solidFill>
                  <a:srgbClr val="33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ccff"/>
                </a:solidFill>
                <a:latin typeface="Another Typewriter"/>
              </a:rPr>
              <a:t> photosynthesis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nother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other Typewriter"/>
              </a:rPr>
              <a:t>If the light intensity is too low, any increase in temperature will not increase the rate of 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37040" y="1557360"/>
          <a:ext cx="417204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557360"/>
                    <a:ext cx="41720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0746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ccff"/>
                </a:solidFill>
                <a:uFillTx/>
                <a:latin typeface="Anderson Four Feather Falls"/>
              </a:rPr>
              <a:t>RELATIONSHIP BETWEEN THE RATE OF PHOTOSYNTHESIS THROUGHOUT THE DAY WITH THE CHANGES IN LIGHT INTENSITY &amp;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osely related &amp; change throughout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Light intensity (LI) high, the temperature (T) is als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ropical country, LI &amp; T are at their maximum at noon time. The rate of photosynthesis is also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erlin Sans FB"/>
              </a:rPr>
              <a:t>If temperature increases above 40</a:t>
            </a:r>
            <a:r>
              <a:rPr b="0" lang="en-US" sz="3100" spc="-1" strike="noStrike" baseline="30000">
                <a:solidFill>
                  <a:srgbClr val="ffffff"/>
                </a:solidFill>
                <a:latin typeface="Berlin Sans FB"/>
              </a:rPr>
              <a:t>o</a:t>
            </a:r>
            <a:r>
              <a:rPr b="0" lang="en-US" sz="3100" spc="-1" strike="noStrike">
                <a:solidFill>
                  <a:srgbClr val="ffffff"/>
                </a:solidFill>
                <a:latin typeface="Berlin Sans FB"/>
              </a:rPr>
              <a:t>C, the rate of photosynthesis decreas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Berlin Sans FB"/>
              </a:rPr>
              <a:t>In temperate country (4 seasons), LI &amp; T change throughout the yea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erlin Sans FB"/>
              </a:rPr>
              <a:t>Winter : LI &amp; T are very low. Photosynthesis hardly occu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Berlin Sans FB"/>
              </a:rPr>
              <a:t>Autumn : the rate of photosynthesis is at its lowest </a:t>
            </a:r>
            <a:r>
              <a:rPr b="0" lang="en-US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ff00"/>
                </a:solidFill>
                <a:latin typeface="Berlin Sans FB"/>
              </a:rPr>
              <a:t> plants shed their leaves &amp; light intensity as well as the temperature are very l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erlin Sans FB"/>
              </a:rPr>
              <a:t>Summer : LI &amp; T are at their optimum level for photosynthesis, the rate of photosynthesis is at its max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rlin Sans FB"/>
              </a:rPr>
              <a:t>Summer is the best time for agricul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To overcome the problem, the plants need to be planted in green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rlin Sans FB"/>
              </a:rPr>
              <a:t>In a greenhouse, the conc. of carbon dioxide, temperature &amp; light intensity are at optimum levels for photosynthe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The rate of photosynthesis is at its maximum throughout the year, ensure the crop production throughout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00"/>
                </a:solidFill>
                <a:uFillTx/>
                <a:latin typeface="Anderson Four Feather Falls"/>
              </a:rPr>
              <a:t>EXERCISE 6.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Font typeface="Another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nother Typewriter"/>
              </a:rPr>
              <a:t>Identify the factors affecting the rate of photo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1001"/>
              </a:spcBef>
              <a:buClr>
                <a:srgbClr val="66ffff"/>
              </a:buClr>
              <a:buFont typeface="Another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nother Typewriter"/>
              </a:rPr>
              <a:t>Explain the effects of temperature and carbon dioxide on the rate of photo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8:08:02Z</dcterms:created>
  <dc:creator>FAZLIE &amp; WAWA</dc:creator>
  <dc:description/>
  <dc:language>en-US</dc:language>
  <cp:lastModifiedBy>FAZLI &amp; WAWA </cp:lastModifiedBy>
  <dcterms:modified xsi:type="dcterms:W3CDTF">2008-09-08T00:16:12Z</dcterms:modified>
  <cp:revision>54</cp:revision>
  <dc:subject/>
  <dc:title>CHAPTER 6 : NUTRITION</dc:title>
</cp:coreProperties>
</file>