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15A8-7D31-4A92-BB94-94B48BBC1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C01F-92F9-4B3C-A853-A80D3C5E4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4552-720A-4A71-B0FC-1516DAD9A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D9AB-16A0-4ECF-813D-5B747CA56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C202-5124-4892-8BB7-B022F823D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63B5-6BC9-4D54-B736-F886EB3E0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753B-8829-4D0A-A833-25195932E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EC98-956C-42B3-AC44-7D4D80DEA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5E9E-58B1-4435-A0FE-295D32475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22D2-F923-44E8-8525-1DD282ED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4A65-A044-4791-8F11-F92B71E1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B6C7-D2A8-4FD1-8829-B4FCE504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08E2D-2407-4BCD-8FD3-C519D5D98A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561600"/>
            <a:ext cx="8229600" cy="5675400"/>
          </a:xfrm>
          <a:prstGeom prst="rect">
            <a:avLst/>
          </a:prstGeom>
          <a:noFill/>
          <a:ln w="76320">
            <a:solidFill>
              <a:srgbClr val="33cc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Benny Blanco"/>
              </a:rPr>
              <a:t>6. 12 :</a:t>
            </a:r>
            <a:br>
              <a:rPr sz="6000"/>
            </a:br>
            <a:r>
              <a:rPr b="1" lang="en-US" sz="6000" spc="-1" strike="noStrike">
                <a:solidFill>
                  <a:srgbClr val="ffff00"/>
                </a:solidFill>
                <a:latin typeface="Benny Blanco"/>
              </a:rPr>
              <a:t>FACTORS AFFECTING PHOTOSYNTHESI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Bauhaus 93"/>
              </a:rPr>
              <a:t>LEARNING OUTCOM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Lucida Console"/>
              </a:rPr>
              <a:t>Identify the factors affecting the rate of photosynthesis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Lucida Console"/>
              </a:rPr>
              <a:t>Identify the factor that limits the rate of photosynthesis at different light intensities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Lucida Console"/>
              </a:rPr>
              <a:t>Explain the effects of temperature &amp; concentration of CO2 on the rate of photosynthesis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Lucida Console"/>
              </a:rPr>
              <a:t>Explain the difference in the rate of photosynthesis in plants throughout the day based on the changes in light intensity &amp; temperature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Lucida Console"/>
              </a:rPr>
              <a:t>Identify some ways to meet the need of increasing the productivity of crops based on factors affecting the rate of photosynthesi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560" y="-2736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Anime Ace 2.0 BB"/>
              </a:rPr>
              <a:t>CONCENTRATION OF CO</a:t>
            </a:r>
            <a:r>
              <a:rPr b="1" lang="en-US" sz="3600" spc="-1" strike="noStrike" u="sng" baseline="-25000">
                <a:solidFill>
                  <a:srgbClr val="ffff00"/>
                </a:solidFill>
                <a:uFillTx/>
                <a:latin typeface="Anime Ace 2.0 BB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560" y="907560"/>
            <a:ext cx="504036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nother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nother Typewriter"/>
              </a:rPr>
              <a:t>Conc. of CO2 in the atmosphere varies between 0.03% to 0.0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Another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nother Typewriter"/>
              </a:rPr>
              <a:t>Light intensity &amp; temperature are kept constant </a:t>
            </a:r>
            <a:r>
              <a:rPr b="0" lang="en-US" sz="24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bbe0e3"/>
                </a:solidFill>
                <a:latin typeface="Another Typewriter"/>
              </a:rPr>
              <a:t> the rate of photosynthesis increases until a saturation point is r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nother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nother Typewriter"/>
              </a:rPr>
              <a:t>After this point, any further increase in the conc. of CO2 has no effect on the rate of photosyn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Another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nother Typewriter"/>
              </a:rPr>
              <a:t>Limited by other factors (light intensity), not enough to increase the rate of photosyn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5148360" y="1628640"/>
          <a:ext cx="3960720" cy="360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1628640"/>
                    <a:ext cx="3960720" cy="36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ff00"/>
                </a:solidFill>
                <a:uFillTx/>
                <a:latin typeface="Benny Blanco"/>
              </a:rPr>
              <a:t>LIGHT INTEN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511344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askerville Old Face"/>
              </a:rPr>
              <a:t>Temperature &amp; concentration of CO2 are kept constant, the rate of photosynthesis can be increased by increasing the light intensity up to the light saturation poi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ff66cc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cc"/>
                </a:solidFill>
                <a:latin typeface="Baskerville Old Face"/>
              </a:rPr>
              <a:t>After this point, any further increase in light intensity has no effect on the rate of photosynthesis (limiting factor : CO2 conc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askerville Old Face"/>
              </a:rPr>
              <a:t>Can be increased by increasing the CO2 con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132520" y="1484280"/>
          <a:ext cx="3976560" cy="48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32520" y="1484280"/>
                    <a:ext cx="397656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0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ff00"/>
                </a:solidFill>
                <a:uFillTx/>
                <a:latin typeface="Benny Blanco"/>
              </a:rPr>
              <a:t>TEMPERA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89744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nother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nother Typewriter"/>
              </a:rPr>
              <a:t>Dark reaction involves enzy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33ccff"/>
              </a:buClr>
              <a:buFont typeface="Another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Another Typewriter"/>
              </a:rPr>
              <a:t>The rate of photosynthesis increases as the temperature increase </a:t>
            </a:r>
            <a:r>
              <a:rPr b="0" lang="en-US" sz="2400" spc="-1" strike="noStrike">
                <a:solidFill>
                  <a:srgbClr val="33cc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ccff"/>
                </a:solidFill>
                <a:latin typeface="Another Typewriter"/>
              </a:rPr>
              <a:t> enzymes more 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nother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nother Typewriter"/>
              </a:rPr>
              <a:t>Optimum temp. is between 3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nother Typewriter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nother Typewriter"/>
              </a:rPr>
              <a:t>C to 35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nother Typewriter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nother Typewriter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33ccff"/>
              </a:buClr>
              <a:buFont typeface="Another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Another Typewriter"/>
              </a:rPr>
              <a:t>40</a:t>
            </a:r>
            <a:r>
              <a:rPr b="0" lang="en-US" sz="2400" spc="-1" strike="noStrike" baseline="30000">
                <a:solidFill>
                  <a:srgbClr val="33ccff"/>
                </a:solidFill>
                <a:latin typeface="Another Typewriter"/>
              </a:rPr>
              <a:t>o</a:t>
            </a:r>
            <a:r>
              <a:rPr b="0" lang="en-US" sz="2400" spc="-1" strike="noStrike">
                <a:solidFill>
                  <a:srgbClr val="33ccff"/>
                </a:solidFill>
                <a:latin typeface="Another Typewriter"/>
              </a:rPr>
              <a:t>C, the rate of reaction decrease </a:t>
            </a:r>
            <a:r>
              <a:rPr b="0" lang="en-US" sz="2400" spc="-1" strike="noStrike">
                <a:solidFill>
                  <a:srgbClr val="33cc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ccff"/>
                </a:solidFill>
                <a:latin typeface="Another Typewriter"/>
              </a:rPr>
              <a:t> enzymes denatured </a:t>
            </a:r>
            <a:r>
              <a:rPr b="0" lang="en-US" sz="2400" spc="-1" strike="noStrike">
                <a:solidFill>
                  <a:srgbClr val="33cc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ccff"/>
                </a:solidFill>
                <a:latin typeface="Another Typewriter"/>
              </a:rPr>
              <a:t> photosynthesis st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nother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nother Typewriter"/>
              </a:rPr>
              <a:t>If the light intensity is too low, any increase in temperature will not increase the rate of photosyn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937040" y="1557360"/>
          <a:ext cx="4172040" cy="439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7040" y="1557360"/>
                    <a:ext cx="417204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207468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ccff"/>
                </a:solidFill>
                <a:uFillTx/>
                <a:latin typeface="Anderson Four Feather Falls"/>
              </a:rPr>
              <a:t>RELATIONSHIP BETWEEN THE RATE OF PHOTOSYNTHESIS THROUGHOUT THE DAY WITH THE CHANGES IN LIGHT INTENSITY &amp; 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2491920"/>
            <a:ext cx="84358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Closely related &amp; change throughout the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Light intensity (LI) high, the temperature (T) is also h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Tropical country, LI &amp; T are at their maximum at noon time. The rate of photosynthesis is also maxim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7138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erlin Sans FB"/>
              </a:rPr>
              <a:t>If temperature increases above 40</a:t>
            </a:r>
            <a:r>
              <a:rPr b="0" lang="en-US" sz="3100" spc="-1" strike="noStrike" baseline="30000">
                <a:solidFill>
                  <a:srgbClr val="ffffff"/>
                </a:solidFill>
                <a:latin typeface="Berlin Sans FB"/>
              </a:rPr>
              <a:t>o</a:t>
            </a:r>
            <a:r>
              <a:rPr b="0" lang="en-US" sz="3100" spc="-1" strike="noStrike">
                <a:solidFill>
                  <a:srgbClr val="ffffff"/>
                </a:solidFill>
                <a:latin typeface="Berlin Sans FB"/>
              </a:rPr>
              <a:t>C, the rate of photosynthesis decrease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74"/>
              </a:spcBef>
              <a:buClr>
                <a:srgbClr val="ffff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Berlin Sans FB"/>
              </a:rPr>
              <a:t>In temperate country (4 seasons), LI &amp; T change throughout the year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erlin Sans FB"/>
              </a:rPr>
              <a:t>Winter : LI &amp; T are very low. Photosynthesis hardly occur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74"/>
              </a:spcBef>
              <a:buClr>
                <a:srgbClr val="ffff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Berlin Sans FB"/>
              </a:rPr>
              <a:t>Autumn : the rate of photosynthesis is at its lowest </a:t>
            </a:r>
            <a:r>
              <a:rPr b="0" lang="en-US" sz="31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3100" spc="-1" strike="noStrike">
                <a:solidFill>
                  <a:srgbClr val="ffff00"/>
                </a:solidFill>
                <a:latin typeface="Berlin Sans FB"/>
              </a:rPr>
              <a:t> plants shed their leaves &amp; light intensity as well as the temperature are very low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erlin Sans FB"/>
              </a:rPr>
              <a:t>Summer : LI &amp; T are at their optimum level for photosynthesis, the rate of photosynthesis is at its max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erlin Sans FB"/>
              </a:rPr>
              <a:t>Summer is the best time for agricultu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erlin Sans FB"/>
              </a:rPr>
              <a:t>To overcome the problem, the plants need to be planted in greenhou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erlin Sans FB"/>
              </a:rPr>
              <a:t>In a greenhouse, the conc. of carbon dioxide, temperature &amp; light intensity are at optimum levels for photosynthes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erlin Sans FB"/>
              </a:rPr>
              <a:t>The rate of photosynthesis is at its maximum throughout the year, ensure the crop production throughout the ye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ffff00"/>
                </a:solidFill>
                <a:uFillTx/>
                <a:latin typeface="Anderson Four Feather Falls"/>
              </a:rPr>
              <a:t>EXERCISE 6.1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-536040">
              <a:lnSpc>
                <a:spcPct val="100000"/>
              </a:lnSpc>
              <a:spcBef>
                <a:spcPts val="1001"/>
              </a:spcBef>
              <a:buClr>
                <a:srgbClr val="66ffff"/>
              </a:buClr>
              <a:buFont typeface="Another Typewrit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ff"/>
                </a:solidFill>
                <a:latin typeface="Another Typewriter"/>
              </a:rPr>
              <a:t>Identify the factors affecting the rate of photosynthesi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100000"/>
              </a:lnSpc>
              <a:spcBef>
                <a:spcPts val="1001"/>
              </a:spcBef>
              <a:buClr>
                <a:srgbClr val="66ffff"/>
              </a:buClr>
              <a:buFont typeface="Another Typewrit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ff"/>
                </a:solidFill>
                <a:latin typeface="Another Typewriter"/>
              </a:rPr>
              <a:t>Explain the effects of temperature and carbon dioxide on the rate of photosynthesi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0T08:08:02Z</dcterms:created>
  <dc:creator>FAZLIE &amp; WAWA</dc:creator>
  <dc:description/>
  <dc:language>en-US</dc:language>
  <cp:lastModifiedBy>FAZLI &amp; WAWA </cp:lastModifiedBy>
  <dcterms:modified xsi:type="dcterms:W3CDTF">2008-09-08T00:16:12Z</dcterms:modified>
  <cp:revision>54</cp:revision>
  <dc:subject/>
  <dc:title>CHAPTER 6 : NUTRITION</dc:title>
</cp:coreProperties>
</file>