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.gif" ContentType="image/gif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41.jpeg" ContentType="image/jpeg"/>
  <Override PartName="/ppt/media/image1.gif" ContentType="image/gif"/>
  <Override PartName="/ppt/media/image11.jpeg" ContentType="image/jpeg"/>
  <Override PartName="/ppt/media/image28.jpeg" ContentType="image/jpeg"/>
  <Override PartName="/ppt/media/image7.jpeg" ContentType="image/jpeg"/>
  <Override PartName="/ppt/media/image38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5.jpeg" ContentType="image/jpeg"/>
  <Override PartName="/ppt/media/image10.jpeg" ContentType="image/jpeg"/>
  <Override PartName="/ppt/media/image36.jpeg" ContentType="image/jpeg"/>
  <Override PartName="/ppt/media/image9.jpeg" ContentType="image/jpeg"/>
  <Override PartName="/ppt/media/image37.jpeg" ContentType="image/jpeg"/>
  <Override PartName="/ppt/media/image12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40.jpeg" ContentType="image/jpeg"/>
  <Override PartName="/ppt/media/image13.jpeg" ContentType="image/jpeg"/>
  <Override PartName="/ppt/media/image29.jpeg" ContentType="image/jpeg"/>
  <Override PartName="/ppt/media/image3.wmf" ContentType="image/x-wmf"/>
  <Override PartName="/ppt/media/image15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CDCA-656A-42DF-B748-CAB9EAD6C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77A3-3988-4DBD-8D49-A487F0307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5FF3-593F-4146-9050-FC1B159D0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D5B5-A40B-4D30-B0D0-B97053801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56367-D0FC-44A4-9A8B-14EE38122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DDCA6-9792-4B65-8CC2-7C2647BB9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9386B-C33E-4896-B5C2-2A8B83D58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96C5E-4E18-48CE-B1AB-973917B00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A3703-3B75-4DA5-8397-3E3ADD88C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6B988-7774-475E-B866-952D1B9C9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A1669-C91B-464B-96A3-FDF111790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660F-7568-4FAB-8AD1-6CA20C0B2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94F5B-F283-4D4E-8E76-D0531ECB7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BBDE9-1C50-4FA9-8F63-70492B80A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6A405-FB36-4A1E-93F8-1BAA7F5CC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F377F-4743-48FD-ABF6-AC1190151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1BF24-3258-484A-8241-A48C8BFC9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9AD9-934B-4124-ADD7-B1C02329C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CED1-C500-45A6-903A-C71B9A6D3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65D3-3B2F-4584-8BE0-CF876598C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9E29-F606-4FF3-B9C9-5EAF1CEED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E4CA-5921-494A-8790-2027CAC36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6FCB-6155-481C-B351-66584BBAF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ED65-A3C5-47F9-8BDA-DD0283541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0CBD2-A3C7-4378-86DC-81523D7EEFB0}" type="slidenum">
              <a:rPr b="0" lang="en-US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8FCEF-83C2-415D-9008-2309EB9DEB93}" type="slidenum">
              <a:rPr b="0" lang="en-US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9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890640" algn="ctr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3" marL="1295280" algn="ctr">
              <a:spcBef>
                <a:spcPts val="4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4" marL="1682640" algn="ctr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4.xml"/><Relationship Id="rId3" Type="http://schemas.openxmlformats.org/officeDocument/2006/relationships/slide" Target="slide12.xml"/><Relationship Id="rId4" Type="http://schemas.openxmlformats.org/officeDocument/2006/relationships/slide" Target="slide25.xml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slide" Target="slide29.xml"/><Relationship Id="rId8" Type="http://schemas.openxmlformats.org/officeDocument/2006/relationships/image" Target="../media/image2.gif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" Target="slide1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wmf"/><Relationship Id="rId3" Type="http://schemas.openxmlformats.org/officeDocument/2006/relationships/slide" Target="slide1.xml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619280" y="189000"/>
            <a:ext cx="54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ff"/>
                </a:solidFill>
                <a:latin typeface="Arial"/>
              </a:rPr>
              <a:t>G grapjes (12)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3" name="">
            <a:hlinkClick r:id="rId1" action="ppaction://hlinksldjump"/>
          </p:cNvPr>
          <p:cNvSpPr/>
          <p:nvPr/>
        </p:nvSpPr>
        <p:spPr>
          <a:xfrm>
            <a:off x="250920" y="1125360"/>
            <a:ext cx="3959280" cy="79236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rof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4" name="">
            <a:hlinkClick r:id="rId2" action="ppaction://hlinksldjump"/>
          </p:cNvPr>
          <p:cNvSpPr/>
          <p:nvPr/>
        </p:nvSpPr>
        <p:spPr>
          <a:xfrm>
            <a:off x="1258920" y="2133720"/>
            <a:ext cx="3959280" cy="79200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ffffff"/>
                </a:solidFill>
                <a:latin typeface="Arial"/>
              </a:rPr>
              <a:t>Grote muile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5" name="">
            <a:hlinkClick r:id="rId3" action="ppaction://hlinksldjump"/>
          </p:cNvPr>
          <p:cNvSpPr/>
          <p:nvPr/>
        </p:nvSpPr>
        <p:spPr>
          <a:xfrm>
            <a:off x="179280" y="3141720"/>
            <a:ext cx="3959280" cy="79200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ffffff"/>
                </a:solidFill>
                <a:latin typeface="Arial"/>
              </a:rPr>
              <a:t>Grow Up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6" name="">
            <a:hlinkClick r:id="rId4" action="ppaction://hlinksldjump"/>
          </p:cNvPr>
          <p:cNvSpPr/>
          <p:nvPr/>
        </p:nvSpPr>
        <p:spPr>
          <a:xfrm>
            <a:off x="1042920" y="4149720"/>
            <a:ext cx="3959280" cy="79200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ffffff"/>
                </a:solidFill>
                <a:latin typeface="Arial"/>
              </a:rPr>
              <a:t>Gruwel . pps11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2340000" y="6093000"/>
            <a:ext cx="5388120" cy="428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latin typeface="Mangal"/>
              </a:rPr>
              <a:t>more at   www.free-powerpoints.goedbegin.be</a:t>
            </a:r>
            <a:endParaRPr b="0" lang="en-US" sz="2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latin typeface="Mangal"/>
              <a:ea typeface="Mangal"/>
            </a:endParaRPr>
          </a:p>
        </p:txBody>
      </p:sp>
      <p:sp>
        <p:nvSpPr>
          <p:cNvPr id="98" name="">
            <a:hlinkClick r:id="rId7" action="ppaction://hlinksldjump"/>
          </p:cNvPr>
          <p:cNvSpPr/>
          <p:nvPr/>
        </p:nvSpPr>
        <p:spPr>
          <a:xfrm>
            <a:off x="250920" y="5157720"/>
            <a:ext cx="3959280" cy="79236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woon toeval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99" name="" descr="">
            <a:hlinkClick r:id="" action="ppaction://hlinkshowjump?jump=endshow"/>
          </p:cNvPr>
          <p:cNvPicPr/>
          <p:nvPr/>
        </p:nvPicPr>
        <p:blipFill>
          <a:blip r:embed="rId8"/>
          <a:stretch/>
        </p:blipFill>
        <p:spPr>
          <a:xfrm>
            <a:off x="6516720" y="981000"/>
            <a:ext cx="1368360" cy="849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500" fill="hold"/>
                                        <p:tgtEl>
                                          <p:spTgt spid="9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000000"/>
                </a:solidFill>
                <a:latin typeface="Arial"/>
              </a:rPr>
              <a:t>Zeg nu zel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292929"/>
                </a:solidFill>
                <a:latin typeface="Arial"/>
              </a:rPr>
              <a:t>Heb ik gelijk,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292929"/>
                </a:solidFill>
                <a:latin typeface="Arial"/>
              </a:rPr>
              <a:t>Of,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292929"/>
                </a:solidFill>
                <a:latin typeface="Arial"/>
              </a:rPr>
              <a:t>Heb ik gelijk?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2" action="ppaction://hlinksldjump"/>
          </p:cNvPr>
          <p:cNvSpPr/>
          <p:nvPr/>
        </p:nvSpPr>
        <p:spPr>
          <a:xfrm>
            <a:off x="7596360" y="5877000"/>
            <a:ext cx="1295280" cy="79200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Terug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609480" y="1447920"/>
            <a:ext cx="79250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66ff66"/>
                </a:solidFill>
                <a:latin typeface="La Bamba LET"/>
              </a:rPr>
              <a:t>When I grow up I wanna be just like DAD</a:t>
            </a:r>
            <a:endParaRPr b="0" lang="en-US" sz="8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rcRect l="15929" t="10343" r="7978" b="0"/>
          <a:stretch/>
        </p:blipFill>
        <p:spPr>
          <a:xfrm>
            <a:off x="4419720" y="3124080"/>
            <a:ext cx="4419360" cy="3434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3967200" cy="431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rcRect l="0" t="0" r="6000" b="0"/>
          <a:stretch/>
        </p:blipFill>
        <p:spPr>
          <a:xfrm>
            <a:off x="304920" y="685800"/>
            <a:ext cx="3581280" cy="54100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rcRect l="14941" t="0" r="0" b="0"/>
          <a:stretch/>
        </p:blipFill>
        <p:spPr>
          <a:xfrm>
            <a:off x="4114800" y="1523880"/>
            <a:ext cx="4773600" cy="3965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267080" y="2367000"/>
            <a:ext cx="4648320" cy="40035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228600" y="457200"/>
            <a:ext cx="3693960" cy="5867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rcRect l="22670" t="12669" r="0" b="12669"/>
          <a:stretch/>
        </p:blipFill>
        <p:spPr>
          <a:xfrm>
            <a:off x="4495680" y="2133720"/>
            <a:ext cx="4419720" cy="42670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684360" y="765000"/>
            <a:ext cx="2990880" cy="3076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rcRect l="10226" t="0" r="0" b="0"/>
          <a:stretch/>
        </p:blipFill>
        <p:spPr>
          <a:xfrm>
            <a:off x="5562720" y="685800"/>
            <a:ext cx="3392280" cy="54021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79280" y="1628640"/>
            <a:ext cx="5256360" cy="3664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809880" y="2857680"/>
            <a:ext cx="5334120" cy="40003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152960" cy="5133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rcRect l="5333" t="12646" r="5333" b="13788"/>
          <a:stretch/>
        </p:blipFill>
        <p:spPr>
          <a:xfrm>
            <a:off x="3581280" y="0"/>
            <a:ext cx="5562720" cy="33210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0" y="3060720"/>
            <a:ext cx="5575320" cy="3797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184840" y="1341360"/>
            <a:ext cx="4589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292929"/>
                </a:solidFill>
                <a:latin typeface="Comic Sans MS"/>
              </a:rPr>
              <a:t>WAARSCHUWING!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292929"/>
                </a:solidFill>
                <a:latin typeface="Comic Sans MS"/>
              </a:rPr>
              <a:t>GA ALLEEN VERDER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292929"/>
                </a:solidFill>
                <a:latin typeface="Comic Sans MS"/>
              </a:rPr>
              <a:t>ALS JE LIEFHEBBER BENT VAN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292929"/>
                </a:solidFill>
                <a:latin typeface="Comic Sans MS"/>
              </a:rPr>
              <a:t>HARD EN GROF…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8101080" y="6453360"/>
            <a:ext cx="814320" cy="21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rcRect l="9014" t="0" r="5720" b="0"/>
          <a:stretch/>
        </p:blipFill>
        <p:spPr>
          <a:xfrm>
            <a:off x="5257800" y="457200"/>
            <a:ext cx="3736800" cy="57150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250920" y="1916280"/>
            <a:ext cx="4825800" cy="381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rcRect l="5272" t="0" r="0" b="0"/>
          <a:stretch/>
        </p:blipFill>
        <p:spPr>
          <a:xfrm>
            <a:off x="4267080" y="0"/>
            <a:ext cx="4876920" cy="36212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0" y="3370320"/>
            <a:ext cx="4716360" cy="3487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5562720" y="1295280"/>
            <a:ext cx="3314520" cy="44197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179280" y="1989000"/>
            <a:ext cx="5113440" cy="324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514760" y="457200"/>
            <a:ext cx="4506840" cy="59436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179280" y="404640"/>
            <a:ext cx="4038840" cy="604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rcRect l="9999" t="7371" r="11002" b="7371"/>
          <a:stretch/>
        </p:blipFill>
        <p:spPr>
          <a:xfrm>
            <a:off x="4419720" y="3270240"/>
            <a:ext cx="4724280" cy="35877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003640" cy="3811680"/>
          </a:xfrm>
          <a:prstGeom prst="rect">
            <a:avLst/>
          </a:prstGeom>
          <a:ln w="0">
            <a:noFill/>
          </a:ln>
        </p:spPr>
      </p:pic>
      <p:sp>
        <p:nvSpPr>
          <p:cNvPr id="141" name="">
            <a:hlinkClick r:id="rId3" action="ppaction://hlinksldjump"/>
          </p:cNvPr>
          <p:cNvSpPr/>
          <p:nvPr/>
        </p:nvSpPr>
        <p:spPr>
          <a:xfrm>
            <a:off x="250920" y="5805360"/>
            <a:ext cx="1295280" cy="79236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Terug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Oh….gruw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2562120" y="2285640"/>
            <a:ext cx="6113520" cy="35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Ik dacht dat ik intussen wel gehard zou zijn, na jarenlang surfend de meest schokkende, wrede, gruwelijke en extreme foto’s en filmpjes te hebben gezien………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0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5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helaas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niets is minder waar, er zijn nog steeds dingen waarvan, als ik er naar kijk, m’n maag omdraait, dingen die me echt aan ‘t hart gaan……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zelf weten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49320" y="1981080"/>
            <a:ext cx="7648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of je kijkt, maar ik vind het vreselijk!!!!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4717" t="0" r="7907" b="0"/>
          <a:stretch/>
        </p:blipFill>
        <p:spPr>
          <a:xfrm>
            <a:off x="0" y="47520"/>
            <a:ext cx="9144000" cy="681048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 txBox="1"/>
          <p:nvPr/>
        </p:nvSpPr>
        <p:spPr>
          <a:xfrm>
            <a:off x="2124000" y="3141720"/>
            <a:ext cx="59054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292929"/>
                </a:solidFill>
                <a:latin typeface="Arial Black"/>
              </a:rPr>
              <a:t>Vreselijk hè!!!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292929"/>
              </a:solidFill>
              <a:latin typeface="Arial Black"/>
              <a:ea typeface="Arial Black"/>
            </a:endParaRPr>
          </a:p>
        </p:txBody>
      </p:sp>
      <p:sp>
        <p:nvSpPr>
          <p:cNvPr id="151" name="">
            <a:hlinkClick r:id="rId2" action="ppaction://hlinksldjump"/>
          </p:cNvPr>
          <p:cNvSpPr/>
          <p:nvPr/>
        </p:nvSpPr>
        <p:spPr>
          <a:xfrm>
            <a:off x="7596360" y="5877000"/>
            <a:ext cx="1295280" cy="79200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Terug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500"/>
                            </p:stCondLst>
                            <p:childTnLst>
                              <p:par>
                                <p:cTn id="163" nodeType="after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169" dur="2000" fill="hold"/>
                                        <p:tgtEl>
                                          <p:spTgt spid="15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692360" y="981000"/>
            <a:ext cx="590400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500" spc="-1" strike="noStrike">
                <a:solidFill>
                  <a:srgbClr val="66ff66"/>
                </a:solidFill>
                <a:latin typeface="Comic Sans MS"/>
              </a:rPr>
              <a:t>Opa heeft iets verkeerd begrepen…</a:t>
            </a:r>
            <a:endParaRPr b="0" lang="en-US" sz="75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8101080" y="6453360"/>
            <a:ext cx="814320" cy="215640"/>
          </a:xfrm>
          <a:prstGeom prst="rect">
            <a:avLst/>
          </a:prstGeom>
          <a:ln w="0">
            <a:noFill/>
          </a:ln>
        </p:spPr>
      </p:pic>
      <p:sp>
        <p:nvSpPr>
          <p:cNvPr id="104" name="">
            <a:hlinkClick r:id="rId3" action="ppaction://hlinksldjump"/>
          </p:cNvPr>
          <p:cNvSpPr/>
          <p:nvPr/>
        </p:nvSpPr>
        <p:spPr>
          <a:xfrm>
            <a:off x="7596360" y="5877000"/>
            <a:ext cx="1295280" cy="79200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Terug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828800" y="404640"/>
            <a:ext cx="561672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395280" y="981000"/>
            <a:ext cx="8280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500" spc="-1" strike="noStrike">
                <a:solidFill>
                  <a:srgbClr val="ccecff"/>
                </a:solidFill>
                <a:latin typeface="Comic Sans MS"/>
              </a:rPr>
              <a:t>Vroeg geleerd is oud gedaan...</a:t>
            </a:r>
            <a:endParaRPr b="0" lang="en-US" sz="75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2268360" y="189000"/>
            <a:ext cx="471348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981000"/>
            <a:ext cx="9144000" cy="46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0" spc="-1" strike="noStrike">
                <a:solidFill>
                  <a:srgbClr val="ccecff"/>
                </a:solidFill>
                <a:latin typeface="Comic Sans MS"/>
              </a:rPr>
              <a:t>Oh Baby let me be,</a:t>
            </a:r>
            <a:endParaRPr b="0" lang="en-US" sz="70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0" spc="-1" strike="noStrike">
                <a:solidFill>
                  <a:srgbClr val="ccecff"/>
                </a:solidFill>
                <a:latin typeface="Comic Sans MS"/>
              </a:rPr>
              <a:t>Your lovely</a:t>
            </a:r>
            <a:r>
              <a:rPr b="1" lang="de-DE" sz="7500" spc="-1" strike="noStrike">
                <a:solidFill>
                  <a:srgbClr val="ccecff"/>
                </a:solidFill>
                <a:latin typeface="Comic Sans MS"/>
              </a:rPr>
              <a:t> </a:t>
            </a:r>
            <a:endParaRPr b="0" lang="en-US" sz="75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500" spc="-1" strike="noStrike">
                <a:solidFill>
                  <a:srgbClr val="ccecff"/>
                </a:solidFill>
                <a:latin typeface="Comic Sans MS"/>
              </a:rPr>
              <a:t>        </a:t>
            </a:r>
            <a:r>
              <a:rPr b="1" lang="de-DE" sz="7500" spc="-1" strike="noStrike">
                <a:solidFill>
                  <a:srgbClr val="ccecff"/>
                </a:solidFill>
                <a:latin typeface="Comic Sans MS"/>
              </a:rPr>
              <a:t>Teddy-Bear </a:t>
            </a:r>
            <a:endParaRPr b="0" lang="en-US" sz="75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38764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4586400" y="1268280"/>
            <a:ext cx="4321080" cy="388800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762120" y="981000"/>
            <a:ext cx="8001000" cy="35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500" spc="-1" strike="noStrike">
                <a:solidFill>
                  <a:srgbClr val="ccecff"/>
                </a:solidFill>
                <a:latin typeface="Comic Sans MS"/>
              </a:rPr>
              <a:t>Ik hou van honden, alhoewel.....??</a:t>
            </a:r>
            <a:endParaRPr b="0" lang="en-US" sz="75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971640" y="662040"/>
            <a:ext cx="698508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692360" y="981000"/>
            <a:ext cx="5904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500" spc="-1" strike="noStrike">
                <a:solidFill>
                  <a:srgbClr val="ccecff"/>
                </a:solidFill>
                <a:latin typeface="Comic Sans MS"/>
              </a:rPr>
              <a:t>Me not please…</a:t>
            </a:r>
            <a:endParaRPr b="0" lang="en-US" sz="75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611280" y="260280"/>
            <a:ext cx="7861320" cy="62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 rot="19788000">
            <a:off x="-793080" y="1773000"/>
            <a:ext cx="99378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500" spc="-1" strike="noStrike">
                <a:solidFill>
                  <a:srgbClr val="ccecff"/>
                </a:solidFill>
                <a:latin typeface="Comic Sans MS"/>
              </a:rPr>
              <a:t>ARNORLD SCHWARZENEGGER</a:t>
            </a:r>
            <a:endParaRPr b="0" lang="en-US" sz="75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000000"/>
                </a:solidFill>
                <a:latin typeface="Arial"/>
              </a:rPr>
              <a:t>D’er zei d’er ne keer enen tegen mij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2205000"/>
            <a:ext cx="9144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0" spc="-1" strike="noStrike">
                <a:solidFill>
                  <a:srgbClr val="ccecff"/>
                </a:solidFill>
                <a:latin typeface="Comic Sans MS"/>
              </a:rPr>
              <a:t>Vroeger:</a:t>
            </a:r>
            <a:endParaRPr b="0" lang="en-US" sz="10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rcRect l="-816" t="6811" r="47006" b="6811"/>
          <a:stretch/>
        </p:blipFill>
        <p:spPr>
          <a:xfrm>
            <a:off x="1979640" y="0"/>
            <a:ext cx="324648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5219640" y="692280"/>
            <a:ext cx="3924360" cy="39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500" spc="-1" strike="noStrike">
                <a:solidFill>
                  <a:srgbClr val="ff0000"/>
                </a:solidFill>
                <a:latin typeface="Comic Sans MS"/>
              </a:rPr>
              <a:t>I‘ll be back !!!</a:t>
            </a:r>
            <a:endParaRPr b="0" lang="en-US" sz="85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2205000"/>
            <a:ext cx="9144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0" spc="-1" strike="noStrike">
                <a:solidFill>
                  <a:srgbClr val="ccecff"/>
                </a:solidFill>
                <a:latin typeface="Comic Sans MS"/>
              </a:rPr>
              <a:t>…</a:t>
            </a:r>
            <a:r>
              <a:rPr b="1" lang="de-DE" sz="10000" spc="-1" strike="noStrike">
                <a:solidFill>
                  <a:srgbClr val="ccecff"/>
                </a:solidFill>
                <a:latin typeface="Comic Sans MS"/>
              </a:rPr>
              <a:t>en nu:</a:t>
            </a:r>
            <a:endParaRPr b="0" lang="en-US" sz="10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rcRect l="57688" t="6811" r="-3630" b="6811"/>
          <a:stretch/>
        </p:blipFill>
        <p:spPr>
          <a:xfrm>
            <a:off x="2195640" y="0"/>
            <a:ext cx="277164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4859280" y="549360"/>
            <a:ext cx="4067280" cy="39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500" spc="-1" strike="noStrike">
                <a:solidFill>
                  <a:srgbClr val="ff0000"/>
                </a:solidFill>
                <a:latin typeface="Comic Sans MS"/>
              </a:rPr>
              <a:t>Oh, my   back…</a:t>
            </a:r>
            <a:endParaRPr b="0" lang="en-US" sz="85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611280" y="1773360"/>
            <a:ext cx="7920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500" spc="-1" strike="noStrike">
                <a:solidFill>
                  <a:srgbClr val="ccecff"/>
                </a:solidFill>
                <a:latin typeface="Comic Sans MS"/>
              </a:rPr>
              <a:t>Ook in Polen rijden BMWs…</a:t>
            </a:r>
            <a:endParaRPr b="0" lang="en-US" sz="75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539640" y="414360"/>
            <a:ext cx="8064720" cy="60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611280" y="1484280"/>
            <a:ext cx="7848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500" spc="-1" strike="noStrike">
                <a:solidFill>
                  <a:srgbClr val="ccecff"/>
                </a:solidFill>
                <a:latin typeface="Comic Sans MS"/>
              </a:rPr>
              <a:t>Polski FIAT met AIRBACK</a:t>
            </a:r>
            <a:endParaRPr b="0" lang="en-US" sz="75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755640" y="566640"/>
            <a:ext cx="712944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0" y="1484280"/>
            <a:ext cx="9325080" cy="33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0" spc="-1" strike="noStrike">
                <a:solidFill>
                  <a:srgbClr val="ccecff"/>
                </a:solidFill>
                <a:latin typeface="Comic Sans MS"/>
              </a:rPr>
              <a:t>COCA COLA</a:t>
            </a:r>
            <a:endParaRPr b="0" lang="en-US" sz="100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500" spc="-1" strike="noStrike">
                <a:solidFill>
                  <a:srgbClr val="ccecff"/>
                </a:solidFill>
                <a:latin typeface="Comic Sans MS"/>
              </a:rPr>
              <a:t>veroverd Polen…</a:t>
            </a:r>
            <a:endParaRPr b="0" lang="en-US" sz="75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000000"/>
                </a:solidFill>
                <a:latin typeface="Arial"/>
              </a:rPr>
              <a:t>Ik heb de grootste mond van het ganse la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258920" y="1484280"/>
            <a:ext cx="69850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500" spc="-1" strike="noStrike">
                <a:solidFill>
                  <a:srgbClr val="ccecff"/>
                </a:solidFill>
                <a:latin typeface="Comic Sans MS"/>
              </a:rPr>
              <a:t>Hé man, waar is mijn auto?</a:t>
            </a:r>
            <a:endParaRPr b="0" lang="en-US" sz="75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784836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0" y="476280"/>
            <a:ext cx="9144000" cy="53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500" spc="-1" strike="noStrike">
                <a:solidFill>
                  <a:srgbClr val="ccecff"/>
                </a:solidFill>
                <a:latin typeface="Comic Sans MS"/>
              </a:rPr>
              <a:t>Wat voor een lelijk gezicht moet dat arm kind wel niet hebben?</a:t>
            </a:r>
            <a:endParaRPr b="0" lang="en-US" sz="75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ccecff"/>
                </a:solidFill>
                <a:latin typeface="Comic Sans MS"/>
              </a:rPr>
              <a:t>OF: Hoe rijk is HIJ?</a:t>
            </a:r>
            <a:endParaRPr b="0" lang="en-US" sz="3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611280" y="789120"/>
            <a:ext cx="7705800" cy="51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0" y="2276640"/>
            <a:ext cx="914400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0" spc="-1" strike="noStrike">
                <a:solidFill>
                  <a:srgbClr val="ff0000"/>
                </a:solidFill>
                <a:latin typeface="Comic Sans MS"/>
              </a:rPr>
              <a:t>HIGHSCORE</a:t>
            </a:r>
            <a:endParaRPr b="0" lang="en-US" sz="1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116000" y="476280"/>
            <a:ext cx="6624720" cy="60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0" y="2133720"/>
            <a:ext cx="9144000" cy="24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800" spc="-1" strike="noStrike">
                <a:solidFill>
                  <a:srgbClr val="ccecff"/>
                </a:solidFill>
                <a:latin typeface="Comic Sans MS"/>
              </a:rPr>
              <a:t>Pirates of the Caribian…</a:t>
            </a:r>
            <a:endParaRPr b="0" lang="en-US" sz="7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55640" y="566640"/>
            <a:ext cx="7704000" cy="577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0" y="2133720"/>
            <a:ext cx="9144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0" spc="-1" strike="noStrike">
                <a:solidFill>
                  <a:srgbClr val="ccecff"/>
                </a:solidFill>
                <a:latin typeface="Comic Sans MS"/>
              </a:rPr>
              <a:t>TROY…</a:t>
            </a:r>
            <a:endParaRPr b="0" lang="en-US" sz="10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2335320" y="0"/>
            <a:ext cx="5261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411280" y="476280"/>
            <a:ext cx="4218120" cy="585144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newsflash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0" y="0"/>
            <a:ext cx="9144000" cy="60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500" spc="-1" strike="noStrike">
                <a:solidFill>
                  <a:srgbClr val="ccecff"/>
                </a:solidFill>
                <a:latin typeface="Comic Sans MS"/>
              </a:rPr>
              <a:t>Waarom heet eigenlijk „Vrouw“ in het Engels „Wife“?</a:t>
            </a:r>
            <a:endParaRPr b="0" lang="en-US" sz="65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500" spc="-1" strike="noStrike">
                <a:solidFill>
                  <a:srgbClr val="ffccff"/>
                </a:solidFill>
                <a:latin typeface="Comic Sans MS"/>
              </a:rPr>
              <a:t>Nou, het is een afkorting…</a:t>
            </a:r>
            <a:endParaRPr b="0" lang="en-US" sz="65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7596360" y="5877000"/>
            <a:ext cx="1295280" cy="79200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Terug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000000"/>
                </a:solidFill>
                <a:latin typeface="Arial"/>
              </a:rPr>
              <a:t>Maar dat is niet waar zull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8800" spc="-1" strike="noStrike">
                <a:solidFill>
                  <a:srgbClr val="000000"/>
                </a:solidFill>
                <a:latin typeface="Arial"/>
              </a:rPr>
              <a:t>IK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0" y="38862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292929"/>
                </a:solidFill>
                <a:latin typeface="Arial"/>
              </a:rPr>
              <a:t>heb namelijk de grootste mond!</a:t>
            </a:r>
            <a:endParaRPr b="0" lang="en-US" sz="4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771640" y="549360"/>
            <a:ext cx="3619800" cy="585144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5T18:55:52Z</dcterms:created>
  <dc:creator>www.free-powerpoints.goedbegin.be </dc:creator>
  <dc:description/>
  <dc:language>en-US</dc:language>
  <cp:lastModifiedBy>Smets</cp:lastModifiedBy>
  <dcterms:modified xsi:type="dcterms:W3CDTF">2009-02-02T19:36:41Z</dcterms:modified>
  <cp:revision>95</cp:revision>
  <dc:subject/>
  <dc:title>Dia 1</dc:title>
</cp:coreProperties>
</file>