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F63-34BB-4E06-9151-4008DC06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25A-B1D7-4D64-A808-F963620A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93E-38D7-4D4C-9570-A4B18877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2DA-91B4-4B5D-AB59-6FACD855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92B6-1231-422C-A555-9E33229A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F0C0-BD1F-43F5-BCA4-6348E53B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9D40-E448-48D2-A2BD-6EE44B7D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488D-7F16-49F2-97F3-9061BDCA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D0C5-B053-435B-ABA4-94599F5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7384-6907-4148-9678-A8B11808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235B-87F4-4B85-A69A-7453584C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626-F4D8-45C8-A10C-6D19AEAD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FAF0-2231-4131-9209-45BA25F3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9A02-30DB-46B4-9D13-68560B8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6EC2-5C44-4897-9E68-8D011CCD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F079-F1F9-43CA-A745-E1B09651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F515-4650-4F85-834A-C9FFFB62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C3C-0D7C-482B-8B73-6AC500F3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35C-D725-4BEA-97E4-2DD1D771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248-496F-4ACD-A896-1F67F61E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9AC-3CA8-4DF9-80B0-6C26CD32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9B6-4387-4DC2-8ECC-9C59E926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C66-E126-4744-AD0E-BD8E0DF2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36A-18D1-48C0-8D94-019B9C99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0C89-6B55-4CF5-A193-1E8F99B61C3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680C-A1DE-488F-AFDE-31E2F922C5E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12.xml"/><Relationship Id="rId4" Type="http://schemas.openxmlformats.org/officeDocument/2006/relationships/slide" Target="slide25.xml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" Target="slide29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G grapjes (12)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f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1258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Grote muil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Grow Up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Gruwel . pps1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34000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98" name="">
            <a:hlinkClick r:id="rId7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woon toev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9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Zeg nu zel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292929"/>
                </a:solidFill>
                <a:latin typeface="Arial"/>
              </a:rPr>
              <a:t>Heb ik gelijk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292929"/>
                </a:solidFill>
                <a:latin typeface="Arial"/>
              </a:rPr>
              <a:t>Of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292929"/>
                </a:solidFill>
                <a:latin typeface="Arial"/>
              </a:rPr>
              <a:t>Heb ik gelijk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447920"/>
            <a:ext cx="7925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ff66"/>
                </a:solidFill>
                <a:latin typeface="La Bamba LET"/>
              </a:rPr>
              <a:t>When I grow up I wanna be just like DAD</a:t>
            </a:r>
            <a:endParaRPr b="0" lang="en-US" sz="8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15929" t="10343" r="7978" b="0"/>
          <a:stretch/>
        </p:blipFill>
        <p:spPr>
          <a:xfrm>
            <a:off x="4419720" y="3124080"/>
            <a:ext cx="4419360" cy="3434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96720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6000" b="0"/>
          <a:stretch/>
        </p:blipFill>
        <p:spPr>
          <a:xfrm>
            <a:off x="304920" y="685800"/>
            <a:ext cx="3581280" cy="5410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14941" t="0" r="0" b="0"/>
          <a:stretch/>
        </p:blipFill>
        <p:spPr>
          <a:xfrm>
            <a:off x="4114800" y="1523880"/>
            <a:ext cx="4773600" cy="396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67080" y="2367000"/>
            <a:ext cx="4648320" cy="4003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369396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22670" t="12669" r="0" b="12669"/>
          <a:stretch/>
        </p:blipFill>
        <p:spPr>
          <a:xfrm>
            <a:off x="4495680" y="2133720"/>
            <a:ext cx="4419720" cy="426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2990880" cy="30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10226" t="0" r="0" b="0"/>
          <a:stretch/>
        </p:blipFill>
        <p:spPr>
          <a:xfrm>
            <a:off x="5562720" y="685800"/>
            <a:ext cx="3392280" cy="5402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5256360" cy="36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9880" y="28576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52960" cy="51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5333" t="12646" r="5333" b="13788"/>
          <a:stretch/>
        </p:blipFill>
        <p:spPr>
          <a:xfrm>
            <a:off x="3581280" y="0"/>
            <a:ext cx="5562720" cy="332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060720"/>
            <a:ext cx="55753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84840" y="1341360"/>
            <a:ext cx="458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Comic Sans MS"/>
              </a:rPr>
              <a:t>WAARSCHUWING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Comic Sans MS"/>
              </a:rPr>
              <a:t>GA ALLEEN VER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Comic Sans MS"/>
              </a:rPr>
              <a:t>ALS JE LIEFHEBBER BENT VA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Comic Sans MS"/>
              </a:rPr>
              <a:t>HARD EN GROF…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101080" y="6453360"/>
            <a:ext cx="81432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9014" t="0" r="5720" b="0"/>
          <a:stretch/>
        </p:blipFill>
        <p:spPr>
          <a:xfrm>
            <a:off x="5257800" y="457200"/>
            <a:ext cx="3736800" cy="5715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8258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5272" t="0" r="0" b="0"/>
          <a:stretch/>
        </p:blipFill>
        <p:spPr>
          <a:xfrm>
            <a:off x="4267080" y="0"/>
            <a:ext cx="4876920" cy="3621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3370320"/>
            <a:ext cx="4716360" cy="34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511344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14760" y="457200"/>
            <a:ext cx="4506840" cy="5943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038840" cy="604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9999" t="7371" r="11002" b="7371"/>
          <a:stretch/>
        </p:blipFill>
        <p:spPr>
          <a:xfrm>
            <a:off x="4419720" y="3270240"/>
            <a:ext cx="4724280" cy="3587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38116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250920" y="5805360"/>
            <a:ext cx="1295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h….gruw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62120" y="2285640"/>
            <a:ext cx="611352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k dacht dat ik intussen wel gehard zou zijn, na jarenlang surfend de meest schokkende, wrede, gruwelijke en extreme foto’s en filmpjes te hebben gezien……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elaa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niets is minder waar, er zijn nog steeds dingen waarvan, als ik er naar kijk, m’n maag omdraait, dingen die me echt aan ‘t hart gaan……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zelf wet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of je kijkt, maar ik vind het vreselijk!!!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4717" t="0" r="7907" b="0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124000" y="3141720"/>
            <a:ext cx="590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Vreselijk hè!!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92360" y="981000"/>
            <a:ext cx="590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66ff66"/>
                </a:solidFill>
                <a:latin typeface="Comic Sans MS"/>
              </a:rPr>
              <a:t>Opa heeft iets verkeerd begrepen…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101080" y="6453360"/>
            <a:ext cx="814320" cy="21564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28800" y="404640"/>
            <a:ext cx="5616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981000"/>
            <a:ext cx="828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Vroeg geleerd is oud gedaan...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7134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81000"/>
            <a:ext cx="91440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0" spc="-1" strike="noStrike">
                <a:solidFill>
                  <a:srgbClr val="ccecff"/>
                </a:solidFill>
                <a:latin typeface="Comic Sans MS"/>
              </a:rPr>
              <a:t>Oh Baby let me be,</a:t>
            </a:r>
            <a:endParaRPr b="0" lang="en-US" sz="7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0" spc="-1" strike="noStrike">
                <a:solidFill>
                  <a:srgbClr val="ccecff"/>
                </a:solidFill>
                <a:latin typeface="Comic Sans MS"/>
              </a:rPr>
              <a:t>Your lovely</a:t>
            </a: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        </a:t>
            </a: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Teddy-Bear 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76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86400" y="1268280"/>
            <a:ext cx="4321080" cy="3888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981000"/>
            <a:ext cx="8001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Ik hou van honden, alhoewel.....??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71640" y="662040"/>
            <a:ext cx="698508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92360" y="981000"/>
            <a:ext cx="590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Me not please…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613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rot="19788000">
            <a:off x="-793080" y="1773000"/>
            <a:ext cx="9937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ARNORLD SCHWARZENEGGER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D’er zei d’er ne keer enen tegen mij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05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0" spc="-1" strike="noStrike">
                <a:solidFill>
                  <a:srgbClr val="ccecff"/>
                </a:solidFill>
                <a:latin typeface="Comic Sans MS"/>
              </a:rPr>
              <a:t>Vroeger:</a:t>
            </a:r>
            <a:endParaRPr b="0" lang="en-US" sz="10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-816" t="6811" r="47006" b="6811"/>
          <a:stretch/>
        </p:blipFill>
        <p:spPr>
          <a:xfrm>
            <a:off x="1979640" y="0"/>
            <a:ext cx="32464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19640" y="692280"/>
            <a:ext cx="392436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500" spc="-1" strike="noStrike">
                <a:solidFill>
                  <a:srgbClr val="ff0000"/>
                </a:solidFill>
                <a:latin typeface="Comic Sans MS"/>
              </a:rPr>
              <a:t>I‘ll be back !!!</a:t>
            </a:r>
            <a:endParaRPr b="0" lang="en-US" sz="8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205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0" spc="-1" strike="noStrike">
                <a:solidFill>
                  <a:srgbClr val="ccecff"/>
                </a:solidFill>
                <a:latin typeface="Comic Sans MS"/>
              </a:rPr>
              <a:t>…</a:t>
            </a:r>
            <a:r>
              <a:rPr b="1" lang="de-DE" sz="10000" spc="-1" strike="noStrike">
                <a:solidFill>
                  <a:srgbClr val="ccecff"/>
                </a:solidFill>
                <a:latin typeface="Comic Sans MS"/>
              </a:rPr>
              <a:t>en nu:</a:t>
            </a:r>
            <a:endParaRPr b="0" lang="en-US" sz="10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57688" t="6811" r="-3630" b="6811"/>
          <a:stretch/>
        </p:blipFill>
        <p:spPr>
          <a:xfrm>
            <a:off x="219564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859280" y="549360"/>
            <a:ext cx="406728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500" spc="-1" strike="noStrike">
                <a:solidFill>
                  <a:srgbClr val="ff0000"/>
                </a:solidFill>
                <a:latin typeface="Comic Sans MS"/>
              </a:rPr>
              <a:t>Oh, my   back…</a:t>
            </a:r>
            <a:endParaRPr b="0" lang="en-US" sz="8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1280" y="1773360"/>
            <a:ext cx="792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Ook in Polen rijden BMWs…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9640" y="414360"/>
            <a:ext cx="806472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11280" y="1484280"/>
            <a:ext cx="7848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Polski FIAT met AIRBACK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566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484280"/>
            <a:ext cx="932508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0" spc="-1" strike="noStrike">
                <a:solidFill>
                  <a:srgbClr val="ccecff"/>
                </a:solidFill>
                <a:latin typeface="Comic Sans MS"/>
              </a:rPr>
              <a:t>COCA COLA</a:t>
            </a:r>
            <a:endParaRPr b="0" lang="en-US" sz="10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veroverd Polen…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Ik heb de grootste mond van het ganse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8920" y="1484280"/>
            <a:ext cx="6985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Hé man, waar is mijn auto?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6280"/>
            <a:ext cx="91440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ccecff"/>
                </a:solidFill>
                <a:latin typeface="Comic Sans MS"/>
              </a:rPr>
              <a:t>Wat voor een lelijk gezicht moet dat arm kind wel niet hebben?</a:t>
            </a:r>
            <a:endParaRPr b="0" lang="en-US" sz="7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ecff"/>
                </a:solidFill>
                <a:latin typeface="Comic Sans MS"/>
              </a:rPr>
              <a:t>OF: Hoe rijk is HIJ?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789120"/>
            <a:ext cx="770580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276640"/>
            <a:ext cx="9144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0" spc="-1" strike="noStrike">
                <a:solidFill>
                  <a:srgbClr val="ff0000"/>
                </a:solidFill>
                <a:latin typeface="Comic Sans MS"/>
              </a:rPr>
              <a:t>HIGHSCORE</a:t>
            </a:r>
            <a:endParaRPr b="0" lang="en-US" sz="1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62472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2133720"/>
            <a:ext cx="9144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ccecff"/>
                </a:solidFill>
                <a:latin typeface="Comic Sans MS"/>
              </a:rPr>
              <a:t>Pirates of the Caribian…</a:t>
            </a:r>
            <a:endParaRPr b="0" lang="en-US" sz="7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566640"/>
            <a:ext cx="77040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1337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0" spc="-1" strike="noStrike">
                <a:solidFill>
                  <a:srgbClr val="ccecff"/>
                </a:solidFill>
                <a:latin typeface="Comic Sans MS"/>
              </a:rPr>
              <a:t>TROY…</a:t>
            </a:r>
            <a:endParaRPr b="0" lang="en-US" sz="10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3532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421812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500" spc="-1" strike="noStrike">
                <a:solidFill>
                  <a:srgbClr val="ccecff"/>
                </a:solidFill>
                <a:latin typeface="Comic Sans MS"/>
              </a:rPr>
              <a:t>Waarom heet eigenlijk „Vrouw“ in het Engels „Wife“?</a:t>
            </a:r>
            <a:endParaRPr b="0" lang="en-US" sz="65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500" spc="-1" strike="noStrike">
                <a:solidFill>
                  <a:srgbClr val="ffccff"/>
                </a:solidFill>
                <a:latin typeface="Comic Sans MS"/>
              </a:rPr>
              <a:t>Nou, het is een afkorting…</a:t>
            </a:r>
            <a:endParaRPr b="0" lang="en-US" sz="6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Maar dat is niet waar zul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8800" spc="-1" strike="noStrike">
                <a:solidFill>
                  <a:srgbClr val="000000"/>
                </a:solidFill>
                <a:latin typeface="Arial"/>
              </a:rPr>
              <a:t>I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292929"/>
                </a:solidFill>
                <a:latin typeface="Arial"/>
              </a:rPr>
              <a:t>heb namelijk de grootste mond!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361980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2-02T19:36:41Z</dcterms:modified>
  <cp:revision>95</cp:revision>
  <dc:subject/>
  <dc:title>Dia 1</dc:title>
</cp:coreProperties>
</file>