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C081-4DB5-4EBB-9DCA-3865CD0C4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7C61-3AE7-462A-BB96-35A05625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2258-46AD-424D-867A-DB45671D4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D322-D882-4B9B-A379-CFED10974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D3F0-277A-4AE4-ACC0-052D94B1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4F4C-1B83-476F-9A68-5BABC89F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E851-C311-4ACA-B4DB-421483E9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00DF-ECDC-474C-9D74-74D155B4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302D-C9A9-4A7F-9D06-000ECB93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4859-EBEA-412C-8690-B189BB8F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AE54-6C3D-488D-94CB-E8F8F55E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654F-2F01-48EC-B118-ECFC770E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CB6C-CE46-4D0A-99A4-7D3FAF35FC4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0-12-27T06:56:45Z</dcterms:modified>
  <cp:revision>27</cp:revision>
  <dc:subject/>
  <dc:title>슬라이드 1</dc:title>
</cp:coreProperties>
</file>