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B7D-D6FD-4013-A09B-5557BB27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733-8E4D-4E01-8496-57CA75B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857-42D2-4613-A07E-4C1F4B9E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1AD-FDC8-4CDE-A538-BE1A6A25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705-3EFF-45F3-9090-D3A2704E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37F-800A-4A6B-8180-CFEA11E2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88F-D34F-4D48-9E24-98C14DA6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C4C-C90D-4475-8820-42999EC5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75F-A891-41B2-965E-2623EDF8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180-67AC-40A0-B91D-FBEF530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876-B8A6-41C6-89CA-AF1AE81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D71-BFA2-4707-A0DC-7C54198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062B-7F91-45B1-BC40-6C592CC8F7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6:56:45Z</dcterms:modified>
  <cp:revision>27</cp:revision>
  <dc:subject/>
  <dc:title>슬라이드 1</dc:title>
</cp:coreProperties>
</file>