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E5F-AFF4-406C-BDE6-9186853738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762-8F27-4940-9BB1-66EA511C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013-462A-4CD4-A5B1-70DAAAF2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7EB-26F8-4C77-9D82-92850BED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595-B178-4563-9369-203FE00B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0B9-ADBC-4864-A626-3D7C211E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1BD-EB98-4D05-9D74-A3A30E4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6A1-62AB-4B5F-B398-93A63D8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554-1F6E-4C32-B207-BB4A279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0B9-7B29-4616-A1BF-681E9355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9EA-62F0-492B-8CFF-6B98F62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2C9-9755-474D-B45C-966DAB58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453-EEE0-4819-A17F-8BA432B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783A-49FA-4DF9-8530-2495B8F71F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1168560"/>
            <a:ext cx="7632720" cy="720720"/>
          </a:xfrm>
          <a:prstGeom prst="rect">
            <a:avLst/>
          </a:prstGeom>
          <a:gradFill rotWithShape="0">
            <a:gsLst>
              <a:gs pos="0">
                <a:srgbClr val="5e5866"/>
              </a:gs>
              <a:gs pos="50000">
                <a:srgbClr val="ccbfdf"/>
              </a:gs>
              <a:gs pos="100000">
                <a:srgbClr val="5e58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فصل الأول : الانسيابية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2637000"/>
            <a:ext cx="2448000" cy="43164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/>
              </a:gs>
              <a:gs pos="100000">
                <a:srgbClr val="8eaa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السوائل النيويونية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33920" y="2033640"/>
            <a:ext cx="2533680" cy="431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نماذج الانسياب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16200" y="3422520"/>
            <a:ext cx="59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79640" y="3424320"/>
            <a:ext cx="936720" cy="509400"/>
            <a:chOff x="1979640" y="3424320"/>
            <a:chExt cx="936720" cy="509400"/>
          </a:xfrm>
        </p:grpSpPr>
        <p:sp>
          <p:nvSpPr>
            <p:cNvPr id="53" name=""/>
            <p:cNvSpPr/>
            <p:nvPr/>
          </p:nvSpPr>
          <p:spPr>
            <a:xfrm>
              <a:off x="1979640" y="3933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31840" y="342432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400" spc="-1" strike="noStrike">
                  <a:solidFill>
                    <a:srgbClr val="cc0000"/>
                  </a:solidFill>
                  <a:latin typeface="Arial"/>
                </a:rPr>
                <a:t>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76720" y="4581360"/>
            <a:ext cx="2374920" cy="719280"/>
          </a:xfrm>
          <a:prstGeom prst="flowChartInputOutput">
            <a:avLst/>
          </a:prstGeom>
          <a:solidFill>
            <a:srgbClr val="c2a9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55880" y="5411880"/>
            <a:ext cx="2374920" cy="881640"/>
            <a:chOff x="2855880" y="5411880"/>
            <a:chExt cx="2374920" cy="881640"/>
          </a:xfrm>
        </p:grpSpPr>
        <p:grpSp>
          <p:nvGrpSpPr>
            <p:cNvPr id="57" name=""/>
            <p:cNvGrpSpPr/>
            <p:nvPr/>
          </p:nvGrpSpPr>
          <p:grpSpPr>
            <a:xfrm>
              <a:off x="2855880" y="5411880"/>
              <a:ext cx="2374920" cy="881640"/>
              <a:chOff x="2855880" y="5411880"/>
              <a:chExt cx="2374920" cy="881640"/>
            </a:xfrm>
          </p:grpSpPr>
          <p:sp>
            <p:nvSpPr>
              <p:cNvPr id="58" name=""/>
              <p:cNvSpPr/>
              <p:nvPr/>
            </p:nvSpPr>
            <p:spPr>
              <a:xfrm>
                <a:off x="2855880" y="5411880"/>
                <a:ext cx="2374920" cy="681120"/>
              </a:xfrm>
              <a:prstGeom prst="flowChartInputOutpu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3640" y="5589720"/>
                <a:ext cx="1297080" cy="7038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2000" spc="-1" strike="noStrike">
                    <a:solidFill>
                      <a:srgbClr val="cc3300"/>
                    </a:solidFill>
                    <a:latin typeface="Arial"/>
                  </a:rPr>
                  <a:t>المستوي 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407480" y="576900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8000" y="3933720"/>
            <a:ext cx="1439280" cy="2086920"/>
            <a:chOff x="4788000" y="3933720"/>
            <a:chExt cx="1439280" cy="2086920"/>
          </a:xfrm>
        </p:grpSpPr>
        <p:sp>
          <p:nvSpPr>
            <p:cNvPr id="62" name=""/>
            <p:cNvSpPr/>
            <p:nvPr/>
          </p:nvSpPr>
          <p:spPr>
            <a:xfrm flipV="1">
              <a:off x="4788000" y="4320000"/>
              <a:ext cx="965160" cy="170064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21480" y="3933720"/>
              <a:ext cx="505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724360" y="4437000"/>
            <a:ext cx="3348360" cy="216072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السرعة التي  تتحرك بها 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طبقة تنقص مقارنة 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سرعةالمستوي أ بحيث يك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تناقص السرعة س ب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المستويين س = سر/ 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32320" y="4365720"/>
            <a:ext cx="452520" cy="1655280"/>
            <a:chOff x="4432320" y="4365720"/>
            <a:chExt cx="452520" cy="1655280"/>
          </a:xfrm>
        </p:grpSpPr>
        <p:sp>
          <p:nvSpPr>
            <p:cNvPr id="66" name=""/>
            <p:cNvSpPr/>
            <p:nvPr/>
          </p:nvSpPr>
          <p:spPr>
            <a:xfrm>
              <a:off x="4737240" y="436572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32320" y="4757400"/>
              <a:ext cx="4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771640" y="3573360"/>
            <a:ext cx="2374920" cy="1021320"/>
            <a:chOff x="2771640" y="3573360"/>
            <a:chExt cx="2374920" cy="1021320"/>
          </a:xfrm>
        </p:grpSpPr>
        <p:sp>
          <p:nvSpPr>
            <p:cNvPr id="69" name=""/>
            <p:cNvSpPr/>
            <p:nvPr/>
          </p:nvSpPr>
          <p:spPr>
            <a:xfrm>
              <a:off x="4382280" y="419580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771640" y="3573360"/>
              <a:ext cx="2374920" cy="719280"/>
              <a:chOff x="2771640" y="3573360"/>
              <a:chExt cx="2374920" cy="719280"/>
            </a:xfrm>
          </p:grpSpPr>
          <p:sp>
            <p:nvSpPr>
              <p:cNvPr id="71" name=""/>
              <p:cNvSpPr/>
              <p:nvPr/>
            </p:nvSpPr>
            <p:spPr>
              <a:xfrm>
                <a:off x="2771640" y="3573360"/>
                <a:ext cx="2374920" cy="719280"/>
              </a:xfrm>
              <a:prstGeom prst="flowChartInputOutpu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14720" y="3824280"/>
                <a:ext cx="720720" cy="4590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1200" spc="-1" strike="noStrike">
                    <a:solidFill>
                      <a:srgbClr val="cc3300"/>
                    </a:solidFill>
                    <a:latin typeface="Arial"/>
                  </a:rPr>
                  <a:t>المستوي أ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852720" y="3573360"/>
            <a:ext cx="2374920" cy="719280"/>
          </a:xfrm>
          <a:prstGeom prst="flowChartInputOutput">
            <a:avLst/>
          </a:prstGeom>
          <a:solidFill>
            <a:srgbClr val="c2a9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149720"/>
            <a:ext cx="2376360" cy="2303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990000"/>
                </a:solidFill>
                <a:latin typeface="Arial"/>
              </a:rPr>
              <a:t>في السوائل النيوتونية فإن تناقص السرعة س أوما يسمى سرعة التغير يتناسب طردا مع القوة المماسية في وحدة الضغط (قانون نيوتن) ض = لز* 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7640" y="260280"/>
            <a:ext cx="5256000" cy="792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c0000"/>
                </a:solidFill>
                <a:latin typeface="Arial"/>
              </a:rPr>
              <a:t>الجمل المبعثرة الصيدل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68360" y="1325520"/>
            <a:ext cx="4319640" cy="1238400"/>
            <a:chOff x="2268360" y="1325520"/>
            <a:chExt cx="4319640" cy="1238400"/>
          </a:xfrm>
        </p:grpSpPr>
        <p:sp>
          <p:nvSpPr>
            <p:cNvPr id="182" name=""/>
            <p:cNvSpPr/>
            <p:nvPr/>
          </p:nvSpPr>
          <p:spPr>
            <a:xfrm>
              <a:off x="2268360" y="2131920"/>
              <a:ext cx="36072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0828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784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776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2732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724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0680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4672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8628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27640" y="2131920"/>
              <a:ext cx="36036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5440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576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3676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812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948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264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64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4500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86360" y="1325520"/>
              <a:ext cx="14472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29520" y="1325520"/>
              <a:ext cx="144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193840" y="44280"/>
            <a:ext cx="4540320" cy="3889440"/>
            <a:chOff x="2193840" y="44280"/>
            <a:chExt cx="4540320" cy="3889440"/>
          </a:xfrm>
        </p:grpSpPr>
        <p:grpSp>
          <p:nvGrpSpPr>
            <p:cNvPr id="203" name=""/>
            <p:cNvGrpSpPr/>
            <p:nvPr/>
          </p:nvGrpSpPr>
          <p:grpSpPr>
            <a:xfrm>
              <a:off x="2268360" y="2709720"/>
              <a:ext cx="4465800" cy="1224000"/>
              <a:chOff x="2268360" y="2709720"/>
              <a:chExt cx="4465800" cy="1224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26836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3732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4196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6552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46600" y="27097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3232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6052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588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251240" y="27097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53080" y="335880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33800" y="343044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268360" y="2133720"/>
              <a:ext cx="430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193840" y="44280"/>
              <a:ext cx="4465800" cy="1150920"/>
              <a:chOff x="2193840" y="44280"/>
              <a:chExt cx="4465800" cy="115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219384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6244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67440" y="6919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9064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72080" y="6919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5780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8600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1360" y="69192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6720" y="69192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78560" y="4428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59280" y="4428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21120" y="44280"/>
                <a:ext cx="50148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01840" y="44280"/>
                <a:ext cx="501840" cy="50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Y" sz="2400" spc="-1" strike="noStrike">
                    <a:solidFill>
                      <a:srgbClr val="000000"/>
                    </a:solidFill>
                    <a:latin typeface="Arial"/>
                  </a:rPr>
                  <a:t>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755640" y="4292640"/>
            <a:ext cx="7704000" cy="20890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مكن توضيح الامتزاز على سطح الفصل بعلاقة جيبس التا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 = - (ف /ثا ح)*(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/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حيث م في هذه الحالة هي عدد جزيئات العامل الاستحلابي الممتزة على ا سم</a:t>
            </a:r>
            <a:r>
              <a:rPr b="1" lang="ar-SY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من سطح الف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6920" y="476280"/>
            <a:ext cx="7704360" cy="151272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في الجمل الممددة  تكون ف عمليا مساوية لتركيز المادة الفعالة سطحيا (ت) في المحل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م = - (ت /ثا ح)*(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/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690520" y="2133720"/>
            <a:ext cx="2494080" cy="2127240"/>
            <a:chOff x="5690520" y="2133720"/>
            <a:chExt cx="2494080" cy="2127240"/>
          </a:xfrm>
        </p:grpSpPr>
        <p:sp>
          <p:nvSpPr>
            <p:cNvPr id="233" name=""/>
            <p:cNvSpPr/>
            <p:nvPr/>
          </p:nvSpPr>
          <p:spPr>
            <a:xfrm>
              <a:off x="5690520" y="213372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29360" y="375912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21440" y="2377800"/>
              <a:ext cx="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47920" y="3862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127920" y="3108240"/>
            <a:ext cx="1582560" cy="647640"/>
          </a:xfrm>
          <a:custGeom>
            <a:avLst/>
            <a:gdLst/>
            <a:ahLst/>
            <a:rect l="l" t="t" r="r" b="b"/>
            <a:pathLst>
              <a:path w="997" h="408">
                <a:moveTo>
                  <a:pt x="0" y="408"/>
                </a:moveTo>
                <a:cubicBezTo>
                  <a:pt x="53" y="283"/>
                  <a:pt x="106" y="158"/>
                  <a:pt x="272" y="90"/>
                </a:cubicBezTo>
                <a:cubicBezTo>
                  <a:pt x="438" y="22"/>
                  <a:pt x="717" y="11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824120" y="2133720"/>
            <a:ext cx="2698920" cy="2127240"/>
            <a:chOff x="1824120" y="2133720"/>
            <a:chExt cx="2698920" cy="2127240"/>
          </a:xfrm>
        </p:grpSpPr>
        <p:sp>
          <p:nvSpPr>
            <p:cNvPr id="239" name=""/>
            <p:cNvSpPr/>
            <p:nvPr/>
          </p:nvSpPr>
          <p:spPr>
            <a:xfrm>
              <a:off x="1824120" y="2133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ت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97160" y="375912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289240" y="2377800"/>
              <a:ext cx="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6520" y="38620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غ 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03720" y="2629080"/>
            <a:ext cx="1390320" cy="668520"/>
            <a:chOff x="2403720" y="2629080"/>
            <a:chExt cx="1390320" cy="668520"/>
          </a:xfrm>
        </p:grpSpPr>
        <p:sp>
          <p:nvSpPr>
            <p:cNvPr id="244" name=""/>
            <p:cNvSpPr/>
            <p:nvPr/>
          </p:nvSpPr>
          <p:spPr>
            <a:xfrm flipH="1" flipV="1">
              <a:off x="2403720" y="2629080"/>
              <a:ext cx="9514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2400" y="32954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60360" y="4292640"/>
            <a:ext cx="8569440" cy="1008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متزاز كل المواقع أو تشكل المذيلات , التركيز المزيلي الحرج (ثابتة مهمة) , منخفضة يؤدي لتشكيل المذيلات بدلا من توضعها على السط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920" y="5373720"/>
            <a:ext cx="8569080" cy="93672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حد الأعظمي لمنحنى الامتزاز موافقا لإشباع كل المواقع تعتبر جزيئات العامل الاستحلابي متوضعة بصورة متوازية( طبقة وحيدة الجزيئ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4000" y="189000"/>
            <a:ext cx="8569080" cy="936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امتزاز يرتبط ب : طبيعة جزيئات المادة, قيمة باهاء الوسط, طبيعة الكهارل الموجودة في الوسط و تركيزها , طبيعة الطورين , درجة الحر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37000" y="1341360"/>
            <a:ext cx="6111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2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بنية العوامل الفعالة سطحيا- نمط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989000"/>
            <a:ext cx="8569080" cy="93672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نية ثنائية الميل , تغلب المجموعات الوظيفية المحبة للماء أو الزيت , توجه المجموعات نحو كل طور , التحدب و التق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29080" y="3645000"/>
            <a:ext cx="4248000" cy="2160000"/>
            <a:chOff x="2629080" y="3645000"/>
            <a:chExt cx="4248000" cy="2160000"/>
          </a:xfrm>
        </p:grpSpPr>
        <p:grpSp>
          <p:nvGrpSpPr>
            <p:cNvPr id="252" name=""/>
            <p:cNvGrpSpPr/>
            <p:nvPr/>
          </p:nvGrpSpPr>
          <p:grpSpPr>
            <a:xfrm>
              <a:off x="5077080" y="3645000"/>
              <a:ext cx="1800000" cy="2160000"/>
              <a:chOff x="5077080" y="3645000"/>
              <a:chExt cx="1800000" cy="2160000"/>
            </a:xfrm>
          </p:grpSpPr>
          <p:sp>
            <p:nvSpPr>
              <p:cNvPr id="253" name=""/>
              <p:cNvSpPr/>
              <p:nvPr/>
            </p:nvSpPr>
            <p:spPr>
              <a:xfrm>
                <a:off x="5077080" y="3645000"/>
                <a:ext cx="1800000" cy="1800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5428440" y="5096520"/>
                <a:ext cx="353880" cy="662040"/>
                <a:chOff x="5428440" y="5096520"/>
                <a:chExt cx="353880" cy="662040"/>
              </a:xfrm>
            </p:grpSpPr>
            <p:sp>
              <p:nvSpPr>
                <p:cNvPr id="255" name=""/>
                <p:cNvSpPr/>
                <p:nvPr/>
              </p:nvSpPr>
              <p:spPr>
                <a:xfrm rot="937800">
                  <a:off x="5461560" y="5437800"/>
                  <a:ext cx="287280" cy="28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5643360" y="5096520"/>
                  <a:ext cx="96840" cy="34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69080" y="5157360"/>
                <a:ext cx="287280" cy="647640"/>
                <a:chOff x="5869080" y="5157360"/>
                <a:chExt cx="287280" cy="647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69080" y="5517720"/>
                  <a:ext cx="287280" cy="287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12000" y="515736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244920" y="5097240"/>
                <a:ext cx="354960" cy="661320"/>
                <a:chOff x="6244920" y="5097240"/>
                <a:chExt cx="354960" cy="661320"/>
              </a:xfrm>
            </p:grpSpPr>
            <p:sp>
              <p:nvSpPr>
                <p:cNvPr id="261" name=""/>
                <p:cNvSpPr/>
                <p:nvPr/>
              </p:nvSpPr>
              <p:spPr>
                <a:xfrm rot="20646000">
                  <a:off x="6278400" y="5437440"/>
                  <a:ext cx="287280" cy="28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283800" y="5097240"/>
                  <a:ext cx="98640" cy="34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5653080" y="4292280"/>
                <a:ext cx="720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2800" spc="-1" strike="noStrike">
                    <a:solidFill>
                      <a:srgbClr val="000000"/>
                    </a:solidFill>
                    <a:latin typeface="Arial"/>
                  </a:rPr>
                  <a:t>زي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629080" y="3715920"/>
              <a:ext cx="1800000" cy="2060280"/>
              <a:chOff x="2629080" y="3715920"/>
              <a:chExt cx="1800000" cy="2060280"/>
            </a:xfrm>
          </p:grpSpPr>
          <p:sp>
            <p:nvSpPr>
              <p:cNvPr id="265" name=""/>
              <p:cNvSpPr/>
              <p:nvPr/>
            </p:nvSpPr>
            <p:spPr>
              <a:xfrm>
                <a:off x="2629080" y="3715920"/>
                <a:ext cx="1800000" cy="1800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03640" y="43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Y" sz="2800" spc="-1" strike="noStrike">
                    <a:solidFill>
                      <a:srgbClr val="000000"/>
                    </a:solidFill>
                    <a:latin typeface="Arial"/>
                  </a:rPr>
                  <a:t>ما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2770920" y="4959720"/>
                <a:ext cx="511920" cy="662040"/>
                <a:chOff x="2770920" y="4959720"/>
                <a:chExt cx="511920" cy="662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2930760" y="4959720"/>
                  <a:ext cx="352080" cy="662040"/>
                  <a:chOff x="2930760" y="4959720"/>
                  <a:chExt cx="352080" cy="662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V="1" rot="902400">
                    <a:off x="2962800" y="4991400"/>
                    <a:ext cx="287280" cy="286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2975400" y="5274000"/>
                    <a:ext cx="93240" cy="347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 flipH="1">
                  <a:off x="2770920" y="5242320"/>
                  <a:ext cx="246240" cy="27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266280" y="5102280"/>
                <a:ext cx="353880" cy="673920"/>
                <a:chOff x="3266280" y="5102280"/>
                <a:chExt cx="353880" cy="67392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266280" y="5102280"/>
                  <a:ext cx="353880" cy="661680"/>
                  <a:chOff x="3266280" y="5102280"/>
                  <a:chExt cx="353880" cy="6616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V="1" rot="20662200">
                    <a:off x="3299400" y="5135400"/>
                    <a:ext cx="287280" cy="286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>
                    <a:off x="3481200" y="5417280"/>
                    <a:ext cx="96840" cy="346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H="1">
                  <a:off x="3347640" y="5416560"/>
                  <a:ext cx="73080" cy="35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612240" y="5007960"/>
                <a:ext cx="513000" cy="697320"/>
                <a:chOff x="3612240" y="5007960"/>
                <a:chExt cx="513000" cy="69732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612240" y="5007960"/>
                  <a:ext cx="513000" cy="596880"/>
                  <a:chOff x="3612240" y="5007960"/>
                  <a:chExt cx="513000" cy="59688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V="1" rot="19298400">
                    <a:off x="3669840" y="5065920"/>
                    <a:ext cx="287280" cy="286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flipV="1">
                    <a:off x="3902040" y="5322600"/>
                    <a:ext cx="223200" cy="282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3845880" y="5345280"/>
                  <a:ext cx="71640" cy="360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140360" y="189000"/>
            <a:ext cx="460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3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تصنيف العوامل الفعالة سطح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981000"/>
            <a:ext cx="7201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الصاعدية (سالبة الشحن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1630440"/>
            <a:ext cx="604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كاربوكسيل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COOM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أمثل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2278080"/>
            <a:ext cx="8280360" cy="57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لصوابين القلوية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Na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و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Na,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2998800"/>
            <a:ext cx="8280360" cy="57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لصوابين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معدنية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(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3718080"/>
            <a:ext cx="8280360" cy="57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لصوابين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عضوية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O-NH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H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00360" y="4508640"/>
            <a:ext cx="604836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سلفات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SO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أمثل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5157720"/>
            <a:ext cx="8280360" cy="57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لوريل سلفات الصوديوم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SO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5878440"/>
            <a:ext cx="8280360" cy="57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سيتيل سلفات الصوديوم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SO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700360" y="333360"/>
            <a:ext cx="604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سلفونات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SO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مثا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981000"/>
            <a:ext cx="8280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دي أوكتيل سلفوسوكسينات الصوديوم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7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SO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1701720"/>
            <a:ext cx="8280360" cy="57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جموعة الفوسفات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OPOORO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    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OPO(OH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2421000"/>
            <a:ext cx="8280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فوسفات الدي ديسيل ( استرات فوسفورية مع أغوال دس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3286080"/>
            <a:ext cx="5184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الهاب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4078440"/>
            <a:ext cx="8280360" cy="1008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أكثرها استخداما أملاح الأمونيوم الرباعية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R-N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(r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حيث  سلسلة كربونية عدد ذرات الكربون بي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و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5300640"/>
            <a:ext cx="8280360" cy="1008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سيتريميد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N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(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Br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كلور البنز ألكونيوم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N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3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(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 2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64000" y="404640"/>
            <a:ext cx="5184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المذبذ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125360"/>
            <a:ext cx="8642160" cy="1440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كون حاوية على مجموعات حمضية و قلوية و بالتالي تتصرف كعوامل استحلابية هابطية أو صاعدية حسب باهاء الوسط و منها الفوسفوليبيد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البيتائي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2781360"/>
            <a:ext cx="5689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4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فعالة سطحيا عديمة الشح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3430440"/>
            <a:ext cx="8424720" cy="935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رات الغليكول مع الحموض الدسمة و منها شحمات الإيتيلين غليكول أو البروبيلين غليكول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5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OO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451008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رات الغليسرول مع الحموض الدسمة و منها وحيدة شحمات الغلسرول 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17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35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OO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-CHOH-CH</a:t>
            </a:r>
            <a:r>
              <a:rPr b="1" lang="fr-FR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8424720" cy="576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شتقات عديد أوكسي إيتيلين و تصنف في عدة زم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4000" y="47628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سترات عديد أوكسي الإيتيلين مع الحموض الدسمة (وتسمى  تجاريا ميرج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yrj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OO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155736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تيرات عديد أوكسي الإيتيلين مع الأغوال الدسمة (وتسمى  تجاريا بريج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rij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 (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O-CH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000" y="2638440"/>
            <a:ext cx="8424720" cy="934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استرات السوربيتان مع الحموض الدسمة (وتسمى  تجاريا سبان أو آرلاسيل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و عند تثبيت مجموعات أوكسيد الإيتيلين ينتج التو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3718080"/>
            <a:ext cx="770580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4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التوازن المائي الزيتي (ت م ز) في العوامل الفعالة سطح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4365720"/>
            <a:ext cx="8353440" cy="14396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تتناسب طردا مع قوة المجموعة المحبة للماء في الجزيئة, القيم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, مزيج العوامل الاستحلابية (من طبيعة واحدة) تحسب ت م ز بجمع قيم العوامل المختلفة و ذلك بعد الأخذ بعين الاعتبار نسبة كل منها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3640" y="5948280"/>
            <a:ext cx="5545080" cy="57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مكن تحديد قيم ت م ز باستخدام طرق مختلف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95280" y="404640"/>
            <a:ext cx="8353440" cy="15116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النسبة لاسترات الحموض الدسمة مع كثيرات الغول تحسب قيمة ت م 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=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ت / ح)  حي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قرينة تصبن الاستر و ح قرينة الحمض للحمض الدسم المتحرر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2062080"/>
            <a:ext cx="8353440" cy="2014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النسبة للاسترات صعبة التصبن كالشموع و مشتقات اللانولين مع أوكسيد الإيتيلين    ت م ز = (ن + و )/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 حي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 : النسبة المئوية لوزن مجموعات أوكسيد الإيتيلين في الجزيئ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: النسبة المئوية لوزن كثير الغو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4222800"/>
            <a:ext cx="8353440" cy="1366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النسبة للعوامل الفعالة سطحيا المتشردة فتحسب قيم ت م ز حسب قاعدة دافيس حيث حدد لكل مجموعة وظيفية رقم يعبر عن حبها للماء أو الزيت (المحبة للماء موجب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3760" y="5735520"/>
            <a:ext cx="8569080" cy="1006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ضادة للرغو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,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, عوامل استحلابية م/ز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مبلل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عوامل استحلابية ز/م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منظفات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مساعدة على الانحلال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00720" y="333360"/>
            <a:ext cx="404496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ظرية ثبات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052640"/>
            <a:ext cx="8353440" cy="2089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عوامل المؤثرة في ثبات المستحلبات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لتأثير المتبادل بين الأ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شكل و طبيعة الطبقة الرقيقة(الفيلم) التي تتشكل في سطح الف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لزوجة الطو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3213000"/>
            <a:ext cx="4176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أثير المتبادل بين الأ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3760" y="3789360"/>
            <a:ext cx="8569080" cy="1006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كون الأجزاء المبعثرة خاضعة لنوعين من القوى : التنافر بين الطبقات الكهربائية المضاعفة للأجزاء و قوى تجاذب فاندرفال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48000" y="4870440"/>
            <a:ext cx="540072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بقة الكهربائية المضاعفة للأجزاء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9600" y="5518080"/>
            <a:ext cx="8569440" cy="1006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حمل الأجزاء المبعثرة في وسط سائل شحنة كهربائية تكون ناتجة إما : من التشرد, أو الامتزاز أو الاحتكاك بين الأجزاء و الطو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2000160" y="693720"/>
            <a:ext cx="719280" cy="3240000"/>
            <a:chOff x="2000160" y="693720"/>
            <a:chExt cx="719280" cy="3240000"/>
          </a:xfrm>
        </p:grpSpPr>
        <p:sp>
          <p:nvSpPr>
            <p:cNvPr id="321" name=""/>
            <p:cNvSpPr/>
            <p:nvPr/>
          </p:nvSpPr>
          <p:spPr>
            <a:xfrm>
              <a:off x="2000160" y="693720"/>
              <a:ext cx="432000" cy="32400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503440" y="765000"/>
              <a:ext cx="216000" cy="3022200"/>
              <a:chOff x="2503440" y="765000"/>
              <a:chExt cx="216000" cy="3022200"/>
            </a:xfrm>
          </p:grpSpPr>
          <p:sp>
            <p:nvSpPr>
              <p:cNvPr id="323" name=""/>
              <p:cNvSpPr/>
              <p:nvPr/>
            </p:nvSpPr>
            <p:spPr>
              <a:xfrm>
                <a:off x="2503440" y="765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03440" y="11962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03440" y="162828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03440" y="20599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03440" y="249192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03440" y="29235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03440" y="335556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03440" y="37872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2936880" y="650880"/>
            <a:ext cx="216000" cy="3238200"/>
            <a:chOff x="2936880" y="650880"/>
            <a:chExt cx="216000" cy="3238200"/>
          </a:xfrm>
        </p:grpSpPr>
        <p:grpSp>
          <p:nvGrpSpPr>
            <p:cNvPr id="332" name=""/>
            <p:cNvGrpSpPr/>
            <p:nvPr/>
          </p:nvGrpSpPr>
          <p:grpSpPr>
            <a:xfrm>
              <a:off x="2936880" y="650880"/>
              <a:ext cx="216000" cy="216000"/>
              <a:chOff x="2936880" y="650880"/>
              <a:chExt cx="216000" cy="216000"/>
            </a:xfrm>
          </p:grpSpPr>
          <p:sp>
            <p:nvSpPr>
              <p:cNvPr id="333" name=""/>
              <p:cNvSpPr/>
              <p:nvPr/>
            </p:nvSpPr>
            <p:spPr>
              <a:xfrm>
                <a:off x="2936880" y="75888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030480" y="65088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936880" y="1082880"/>
              <a:ext cx="216000" cy="216000"/>
              <a:chOff x="2936880" y="1082880"/>
              <a:chExt cx="216000" cy="216000"/>
            </a:xfrm>
          </p:grpSpPr>
          <p:sp>
            <p:nvSpPr>
              <p:cNvPr id="336" name=""/>
              <p:cNvSpPr/>
              <p:nvPr/>
            </p:nvSpPr>
            <p:spPr>
              <a:xfrm>
                <a:off x="2936880" y="119088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030480" y="108288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936880" y="1514520"/>
              <a:ext cx="216000" cy="216000"/>
              <a:chOff x="2936880" y="1514520"/>
              <a:chExt cx="216000" cy="216000"/>
            </a:xfrm>
          </p:grpSpPr>
          <p:sp>
            <p:nvSpPr>
              <p:cNvPr id="339" name=""/>
              <p:cNvSpPr/>
              <p:nvPr/>
            </p:nvSpPr>
            <p:spPr>
              <a:xfrm>
                <a:off x="2936880" y="162252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030480" y="151452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36880" y="1946160"/>
              <a:ext cx="216000" cy="215640"/>
              <a:chOff x="2936880" y="1946160"/>
              <a:chExt cx="216000" cy="215640"/>
            </a:xfrm>
          </p:grpSpPr>
          <p:sp>
            <p:nvSpPr>
              <p:cNvPr id="342" name=""/>
              <p:cNvSpPr/>
              <p:nvPr/>
            </p:nvSpPr>
            <p:spPr>
              <a:xfrm>
                <a:off x="2936880" y="205416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3030480" y="1946160"/>
                <a:ext cx="0" cy="21564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36880" y="2378160"/>
              <a:ext cx="216000" cy="216000"/>
              <a:chOff x="2936880" y="2378160"/>
              <a:chExt cx="216000" cy="216000"/>
            </a:xfrm>
          </p:grpSpPr>
          <p:sp>
            <p:nvSpPr>
              <p:cNvPr id="345" name=""/>
              <p:cNvSpPr/>
              <p:nvPr/>
            </p:nvSpPr>
            <p:spPr>
              <a:xfrm>
                <a:off x="2936880" y="248616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3030480" y="237816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936880" y="2809800"/>
              <a:ext cx="216000" cy="215640"/>
              <a:chOff x="2936880" y="2809800"/>
              <a:chExt cx="216000" cy="215640"/>
            </a:xfrm>
          </p:grpSpPr>
          <p:sp>
            <p:nvSpPr>
              <p:cNvPr id="348" name=""/>
              <p:cNvSpPr/>
              <p:nvPr/>
            </p:nvSpPr>
            <p:spPr>
              <a:xfrm>
                <a:off x="2936880" y="291780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030480" y="2809800"/>
                <a:ext cx="0" cy="21564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936880" y="3241800"/>
              <a:ext cx="216000" cy="216000"/>
              <a:chOff x="2936880" y="3241800"/>
              <a:chExt cx="216000" cy="216000"/>
            </a:xfrm>
          </p:grpSpPr>
          <p:sp>
            <p:nvSpPr>
              <p:cNvPr id="351" name=""/>
              <p:cNvSpPr/>
              <p:nvPr/>
            </p:nvSpPr>
            <p:spPr>
              <a:xfrm>
                <a:off x="2936880" y="334980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3030480" y="3241800"/>
                <a:ext cx="0" cy="216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936880" y="3673440"/>
              <a:ext cx="216000" cy="215640"/>
              <a:chOff x="2936880" y="3673440"/>
              <a:chExt cx="216000" cy="215640"/>
            </a:xfrm>
          </p:grpSpPr>
          <p:sp>
            <p:nvSpPr>
              <p:cNvPr id="354" name=""/>
              <p:cNvSpPr/>
              <p:nvPr/>
            </p:nvSpPr>
            <p:spPr>
              <a:xfrm>
                <a:off x="2936880" y="3781440"/>
                <a:ext cx="21600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030480" y="3673440"/>
                <a:ext cx="0" cy="21564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584520" y="620280"/>
            <a:ext cx="1655280" cy="3238200"/>
            <a:chOff x="3584520" y="620280"/>
            <a:chExt cx="1655280" cy="3238200"/>
          </a:xfrm>
        </p:grpSpPr>
        <p:sp>
          <p:nvSpPr>
            <p:cNvPr id="357" name=""/>
            <p:cNvSpPr/>
            <p:nvPr/>
          </p:nvSpPr>
          <p:spPr>
            <a:xfrm>
              <a:off x="4016160" y="112536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584520" y="620280"/>
              <a:ext cx="215640" cy="215640"/>
              <a:chOff x="3584520" y="620280"/>
              <a:chExt cx="215640" cy="215640"/>
            </a:xfrm>
          </p:grpSpPr>
          <p:sp>
            <p:nvSpPr>
              <p:cNvPr id="359" name=""/>
              <p:cNvSpPr/>
              <p:nvPr/>
            </p:nvSpPr>
            <p:spPr>
              <a:xfrm>
                <a:off x="3584520" y="728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3677760" y="62028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584520" y="1052280"/>
              <a:ext cx="215640" cy="216000"/>
              <a:chOff x="3584520" y="1052280"/>
              <a:chExt cx="215640" cy="216000"/>
            </a:xfrm>
          </p:grpSpPr>
          <p:sp>
            <p:nvSpPr>
              <p:cNvPr id="362" name=""/>
              <p:cNvSpPr/>
              <p:nvPr/>
            </p:nvSpPr>
            <p:spPr>
              <a:xfrm>
                <a:off x="3584520" y="1160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677760" y="105228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584520" y="1915920"/>
              <a:ext cx="215640" cy="216000"/>
              <a:chOff x="3584520" y="1915920"/>
              <a:chExt cx="215640" cy="216000"/>
            </a:xfrm>
          </p:grpSpPr>
          <p:sp>
            <p:nvSpPr>
              <p:cNvPr id="365" name=""/>
              <p:cNvSpPr/>
              <p:nvPr/>
            </p:nvSpPr>
            <p:spPr>
              <a:xfrm>
                <a:off x="3584520" y="202392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677760" y="191592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584520" y="2779560"/>
              <a:ext cx="215640" cy="216000"/>
              <a:chOff x="3584520" y="2779560"/>
              <a:chExt cx="215640" cy="216000"/>
            </a:xfrm>
          </p:grpSpPr>
          <p:sp>
            <p:nvSpPr>
              <p:cNvPr id="368" name=""/>
              <p:cNvSpPr/>
              <p:nvPr/>
            </p:nvSpPr>
            <p:spPr>
              <a:xfrm>
                <a:off x="3584520" y="288756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3677760" y="277956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584520" y="3642840"/>
              <a:ext cx="215640" cy="215640"/>
              <a:chOff x="3584520" y="3642840"/>
              <a:chExt cx="215640" cy="215640"/>
            </a:xfrm>
          </p:grpSpPr>
          <p:sp>
            <p:nvSpPr>
              <p:cNvPr id="371" name=""/>
              <p:cNvSpPr/>
              <p:nvPr/>
            </p:nvSpPr>
            <p:spPr>
              <a:xfrm>
                <a:off x="3584520" y="375084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3677760" y="364284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6160" y="201744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16160" y="285264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16160" y="3717720"/>
              <a:ext cx="21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447800" y="620280"/>
              <a:ext cx="215640" cy="215640"/>
              <a:chOff x="4447800" y="620280"/>
              <a:chExt cx="215640" cy="215640"/>
            </a:xfrm>
          </p:grpSpPr>
          <p:sp>
            <p:nvSpPr>
              <p:cNvPr id="377" name=""/>
              <p:cNvSpPr/>
              <p:nvPr/>
            </p:nvSpPr>
            <p:spPr>
              <a:xfrm>
                <a:off x="4447800" y="728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541040" y="62028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447800" y="1052280"/>
              <a:ext cx="215640" cy="216000"/>
              <a:chOff x="4447800" y="1052280"/>
              <a:chExt cx="215640" cy="216000"/>
            </a:xfrm>
          </p:grpSpPr>
          <p:sp>
            <p:nvSpPr>
              <p:cNvPr id="380" name=""/>
              <p:cNvSpPr/>
              <p:nvPr/>
            </p:nvSpPr>
            <p:spPr>
              <a:xfrm>
                <a:off x="4447800" y="116028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541040" y="105228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447800" y="1915920"/>
              <a:ext cx="215640" cy="216000"/>
              <a:chOff x="4447800" y="1915920"/>
              <a:chExt cx="215640" cy="216000"/>
            </a:xfrm>
          </p:grpSpPr>
          <p:sp>
            <p:nvSpPr>
              <p:cNvPr id="383" name=""/>
              <p:cNvSpPr/>
              <p:nvPr/>
            </p:nvSpPr>
            <p:spPr>
              <a:xfrm>
                <a:off x="4447800" y="202392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41040" y="191592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447800" y="2779560"/>
              <a:ext cx="215640" cy="216000"/>
              <a:chOff x="4447800" y="2779560"/>
              <a:chExt cx="215640" cy="216000"/>
            </a:xfrm>
          </p:grpSpPr>
          <p:sp>
            <p:nvSpPr>
              <p:cNvPr id="386" name=""/>
              <p:cNvSpPr/>
              <p:nvPr/>
            </p:nvSpPr>
            <p:spPr>
              <a:xfrm>
                <a:off x="4447800" y="288756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541040" y="2779560"/>
                <a:ext cx="0" cy="216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4447800" y="3642840"/>
              <a:ext cx="215640" cy="215640"/>
              <a:chOff x="4447800" y="3642840"/>
              <a:chExt cx="215640" cy="215640"/>
            </a:xfrm>
          </p:grpSpPr>
          <p:sp>
            <p:nvSpPr>
              <p:cNvPr id="389" name=""/>
              <p:cNvSpPr/>
              <p:nvPr/>
            </p:nvSpPr>
            <p:spPr>
              <a:xfrm>
                <a:off x="4447800" y="3750840"/>
                <a:ext cx="21564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541040" y="3642840"/>
                <a:ext cx="0" cy="21564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5024160" y="76500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4160" y="165708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24160" y="249228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24160" y="3357360"/>
              <a:ext cx="21564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29580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27800" y="620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888160" y="1341000"/>
            <a:ext cx="1439640" cy="1872000"/>
            <a:chOff x="5888160" y="1341000"/>
            <a:chExt cx="1439640" cy="1872000"/>
          </a:xfrm>
        </p:grpSpPr>
        <p:grpSp>
          <p:nvGrpSpPr>
            <p:cNvPr id="398" name=""/>
            <p:cNvGrpSpPr/>
            <p:nvPr/>
          </p:nvGrpSpPr>
          <p:grpSpPr>
            <a:xfrm>
              <a:off x="5888160" y="1341000"/>
              <a:ext cx="215640" cy="215640"/>
              <a:chOff x="5888160" y="1341000"/>
              <a:chExt cx="215640" cy="215640"/>
            </a:xfrm>
          </p:grpSpPr>
          <p:sp>
            <p:nvSpPr>
              <p:cNvPr id="399" name=""/>
              <p:cNvSpPr/>
              <p:nvPr/>
            </p:nvSpPr>
            <p:spPr>
              <a:xfrm>
                <a:off x="5888160" y="144900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5981400" y="1341000"/>
                <a:ext cx="0" cy="215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888160" y="2781000"/>
              <a:ext cx="215640" cy="216000"/>
              <a:chOff x="5888160" y="2781000"/>
              <a:chExt cx="215640" cy="216000"/>
            </a:xfrm>
          </p:grpSpPr>
          <p:sp>
            <p:nvSpPr>
              <p:cNvPr id="402" name=""/>
              <p:cNvSpPr/>
              <p:nvPr/>
            </p:nvSpPr>
            <p:spPr>
              <a:xfrm>
                <a:off x="5888160" y="288900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981400" y="2781000"/>
                <a:ext cx="0" cy="216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888160" y="2176200"/>
              <a:ext cx="215640" cy="216000"/>
              <a:chOff x="5888160" y="2176200"/>
              <a:chExt cx="215640" cy="216000"/>
            </a:xfrm>
          </p:grpSpPr>
          <p:sp>
            <p:nvSpPr>
              <p:cNvPr id="405" name=""/>
              <p:cNvSpPr/>
              <p:nvPr/>
            </p:nvSpPr>
            <p:spPr>
              <a:xfrm>
                <a:off x="5888160" y="228420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981400" y="2176200"/>
                <a:ext cx="0" cy="216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6176880" y="1773000"/>
              <a:ext cx="216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12160" y="3070080"/>
              <a:ext cx="2156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40520" y="2277720"/>
              <a:ext cx="216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48520" y="2565360"/>
              <a:ext cx="2156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9800" y="3213000"/>
              <a:ext cx="216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608880" y="1844280"/>
              <a:ext cx="215640" cy="215640"/>
              <a:chOff x="6608880" y="1844280"/>
              <a:chExt cx="215640" cy="215640"/>
            </a:xfrm>
          </p:grpSpPr>
          <p:sp>
            <p:nvSpPr>
              <p:cNvPr id="413" name=""/>
              <p:cNvSpPr/>
              <p:nvPr/>
            </p:nvSpPr>
            <p:spPr>
              <a:xfrm>
                <a:off x="6608880" y="1952280"/>
                <a:ext cx="2156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6702120" y="1844280"/>
                <a:ext cx="0" cy="215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80160" y="2565000"/>
              <a:ext cx="216000" cy="215640"/>
              <a:chOff x="6680160" y="2565000"/>
              <a:chExt cx="216000" cy="215640"/>
            </a:xfrm>
          </p:grpSpPr>
          <p:sp>
            <p:nvSpPr>
              <p:cNvPr id="416" name=""/>
              <p:cNvSpPr/>
              <p:nvPr/>
            </p:nvSpPr>
            <p:spPr>
              <a:xfrm>
                <a:off x="6680160" y="2673000"/>
                <a:ext cx="216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73760" y="2565000"/>
                <a:ext cx="0" cy="215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1649520" y="4041720"/>
            <a:ext cx="4734720" cy="2270520"/>
            <a:chOff x="1649520" y="4041720"/>
            <a:chExt cx="4734720" cy="2270520"/>
          </a:xfrm>
        </p:grpSpPr>
        <p:sp>
          <p:nvSpPr>
            <p:cNvPr id="419" name=""/>
            <p:cNvSpPr/>
            <p:nvPr/>
          </p:nvSpPr>
          <p:spPr>
            <a:xfrm>
              <a:off x="2428920" y="418464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28920" y="597672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49520" y="404172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الكمو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74640" y="591336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المساف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427120" y="4808520"/>
            <a:ext cx="3100680" cy="1141560"/>
          </a:xfrm>
          <a:custGeom>
            <a:avLst/>
            <a:gdLst/>
            <a:ahLst/>
            <a:rect l="l" t="t" r="r" b="b"/>
            <a:pathLst>
              <a:path w="1316" h="499">
                <a:moveTo>
                  <a:pt x="0" y="0"/>
                </a:moveTo>
                <a:cubicBezTo>
                  <a:pt x="163" y="162"/>
                  <a:pt x="326" y="325"/>
                  <a:pt x="545" y="408"/>
                </a:cubicBezTo>
                <a:cubicBezTo>
                  <a:pt x="764" y="491"/>
                  <a:pt x="1040" y="495"/>
                  <a:pt x="1316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31800" y="4021200"/>
            <a:ext cx="3097440" cy="1957320"/>
            <a:chOff x="2431800" y="4021200"/>
            <a:chExt cx="3097440" cy="1957320"/>
          </a:xfrm>
        </p:grpSpPr>
        <p:sp>
          <p:nvSpPr>
            <p:cNvPr id="425" name=""/>
            <p:cNvSpPr/>
            <p:nvPr/>
          </p:nvSpPr>
          <p:spPr>
            <a:xfrm>
              <a:off x="3295800" y="4034160"/>
              <a:ext cx="0" cy="194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431800" y="5546880"/>
              <a:ext cx="863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29240" y="4021200"/>
              <a:ext cx="0" cy="194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614960" y="524844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ك 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83160" y="465300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58920" y="3429000"/>
            <a:ext cx="7129440" cy="792000"/>
          </a:xfrm>
          <a:prstGeom prst="rect">
            <a:avLst/>
          </a:prstGeom>
          <a:gradFill rotWithShape="0">
            <a:gsLst>
              <a:gs pos="0">
                <a:srgbClr val="9a9f9a"/>
              </a:gs>
              <a:gs pos="50000">
                <a:srgbClr val="ccd2cc"/>
              </a:gs>
              <a:gs pos="100000">
                <a:srgbClr val="9a9f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علاقة بين تناقص السرعة (الانسياب) و الضغط ليست خطية في هذه الحالة أي أن اللزوجة لاتبقى ثابتة مع تغير الضغط و أهمها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18120" y="894960"/>
            <a:ext cx="2592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6640" y="187956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cc0000"/>
                </a:solidFill>
                <a:latin typeface="Arial"/>
              </a:rPr>
              <a:t>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03680" y="333360"/>
            <a:ext cx="4131360" cy="2270520"/>
            <a:chOff x="4603680" y="333360"/>
            <a:chExt cx="4131360" cy="2270520"/>
          </a:xfrm>
        </p:grpSpPr>
        <p:sp>
          <p:nvSpPr>
            <p:cNvPr id="80" name=""/>
            <p:cNvSpPr/>
            <p:nvPr/>
          </p:nvSpPr>
          <p:spPr>
            <a:xfrm>
              <a:off x="5118120" y="47628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26836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03680" y="3333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03680" y="2205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9720" y="333360"/>
            <a:ext cx="4082400" cy="2270520"/>
            <a:chOff x="549720" y="333360"/>
            <a:chExt cx="4082400" cy="2270520"/>
          </a:xfrm>
        </p:grpSpPr>
        <p:sp>
          <p:nvSpPr>
            <p:cNvPr id="85" name=""/>
            <p:cNvSpPr/>
            <p:nvPr/>
          </p:nvSpPr>
          <p:spPr>
            <a:xfrm>
              <a:off x="1019160" y="47628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19160" y="226836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9720" y="3333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8320" y="220500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17720" y="184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637000"/>
            <a:ext cx="273672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2- 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السوائل اللانيويونية</a:t>
            </a:r>
            <a:r>
              <a:rPr b="1" lang="ar-SY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4581360"/>
            <a:ext cx="29448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النموذج شبه البلاستيكي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5283360"/>
            <a:ext cx="287964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سلاسل ضحمة متشاب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5157720"/>
            <a:ext cx="863640" cy="701640"/>
          </a:xfrm>
          <a:prstGeom prst="leftArrow">
            <a:avLst>
              <a:gd name="adj1" fmla="val 50000"/>
              <a:gd name="adj2" fmla="val 30772"/>
            </a:avLst>
          </a:prstGeom>
          <a:gradFill rotWithShape="0">
            <a:gsLst>
              <a:gs pos="0">
                <a:srgbClr val="5f605e"/>
              </a:gs>
              <a:gs pos="50000">
                <a:srgbClr val="cfd1cd"/>
              </a:gs>
              <a:gs pos="100000">
                <a:srgbClr val="5f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283360"/>
            <a:ext cx="288000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عدم انتظام في الانسي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5877000"/>
            <a:ext cx="2808360" cy="79200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فك تشابك هذه السلاسل يحتاج إلى ضغط عالي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5967360"/>
            <a:ext cx="863640" cy="701640"/>
          </a:xfrm>
          <a:prstGeom prst="leftArrow">
            <a:avLst>
              <a:gd name="adj1" fmla="val 50000"/>
              <a:gd name="adj2" fmla="val 30772"/>
            </a:avLst>
          </a:prstGeom>
          <a:gradFill rotWithShape="0">
            <a:gsLst>
              <a:gs pos="0">
                <a:srgbClr val="5f605e"/>
              </a:gs>
              <a:gs pos="50000">
                <a:srgbClr val="cfd1cd"/>
              </a:gs>
              <a:gs pos="100000">
                <a:srgbClr val="5f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093000"/>
            <a:ext cx="3240360" cy="43164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منحنيات انسياب غير خط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84360" y="404640"/>
            <a:ext cx="6264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تطبيق نظرية ثبات الغرويدات على المستحلبات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981000"/>
            <a:ext cx="8353440" cy="2448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أجزاء التي يمكن أن تلتقي بتأثير الحركة البراونية تخضع لنوعين من القوى : التنافر الكهربائي و قوى تجاذب فاندرفالس (تنافر أكبر = عدم تجمع, تنافر مساوي للقدرة الحركية = تأخير التجمع, تنافر أصغر = تجمع ) التجمع يؤدي إلىاندماج  قطيرات المستحلب و انفصاله , ليس بالضرورة أن يسبب التجمع الإندماج بين القطي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42920" y="3573360"/>
            <a:ext cx="77058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طبيعة العامل الاستحلابي في سطح الفصل- الحماية الفراغ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3640" y="4149720"/>
            <a:ext cx="6985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تثبيت باستعمال المواد الفعالة سطحيا عديمة الشحنة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726080"/>
            <a:ext cx="8353440" cy="1798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ثباتية المستحلبات لاتفسرها النظرية السابقة , ازدياد عدد جزيئات أوكسيد الإيتيلين يخفض الكمون الكهرحركي للقطيرات المشحونة سلبيا و مع ذلك يزداد ثبات المستحلب , و هذا عائد للتثبيت الفراغي الذي لا يحدث إلا في حال اقتراب الأجزاء المبعثرة من بعضها البع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95280" y="260280"/>
            <a:ext cx="8353440" cy="201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ذا التقارب الشديد يحدث تنافرا بسب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لحجم الضيق الذي تشغله سلاسل أوكسيد الإيتيل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تقارب, تداخل , ازدياد التركيز الموضعي لسلاسل أوكسيد الإيتيلين مما يزيد الضغط الحلولي و حدوث تنافر حلولي لذلك فإ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2349360"/>
            <a:ext cx="8353440" cy="201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لخصائص هذه السلاسل (درجة التكوثر, حالة التميه و التوسع) و العوامل المؤثرة فيها(تركيز الكهارل و طبيعتها, درجة الحرارة ) تأثير كبير في ثبات هذا النوع من المستحلبات فالبنية المتماسكة لجزيئات العوامل الاستحلابية هذه  حول القطيرات المبعثرة هي السبب في الث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5280" y="4437000"/>
            <a:ext cx="8353440" cy="1368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زداد فعالية هذه العوامل باستعمال مزيج عاملين استحلابيين أحدهما أكثر حبا للماء و الآخر أكثر حبا للزيت , الروابط الهيدروجينية مع جزيئات ال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51280" y="333360"/>
            <a:ext cx="4897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تثبيت بوساطة الجزيئات الضخمة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981000"/>
            <a:ext cx="8353440" cy="2376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عمال الجزيئات الضخمة في تثبيت المستحلبات يؤدي لتشكيل غلاف  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0,1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ميكرومتر) متعدد الطبقات (لا يمكن غسل الطبقة الأولى منه) ذو خصائص لزجة و مرنة من نمط ز/م ( امتزاز بطيء و غير قلوب), الثبات يتعلق بتماسك الغلاف و صلابته و مرونته, +  لزوجة, امتزاز الجزيئة الضخمة على سطح الأجزاء المجا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3573360"/>
            <a:ext cx="54720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تثبيت بوساطة المواد الصلبة الناعمة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4148280"/>
            <a:ext cx="8353440" cy="10094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ستعمل في تثبيت المستحلبات شرط : ناعمة و غير منحلة في طوريها و أن تتمتع بالخصائص التي تجعلها تتوضع في سطح الفصل ونلاح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5227560"/>
            <a:ext cx="8353440" cy="10098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ذا كانت المادة الصلبة متبللة بالماء فقط فإ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 /ز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ز / م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/ 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95280" y="333360"/>
            <a:ext cx="8353440" cy="10098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ذا كانت المادة الصلبة متبللة بالزيت فقط فإ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 /م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ز / م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/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1411200"/>
            <a:ext cx="8353440" cy="10098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ذا كانت المادة الصلبة متبللة بطوري المستحلب فإ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ز /م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 / م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ص/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5280" y="2490840"/>
            <a:ext cx="8353440" cy="14428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 ضح العلاقة الأخيرة أن توضع المادة الصلبة في سطح الفصل يخفض من القدرة السطحية الحرة , النمط الناتج يتعلق بدرجة تبلل المادة في كل من طوري المستحلب, نمط ز/م أو م/ز , السطح النو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6000" y="4078440"/>
            <a:ext cx="295272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لزوجة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4649760"/>
            <a:ext cx="8353440" cy="14432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شكل عاملا مهما في ثبات المستحلبات و في إمكانية استعمالها  (سهولة إعطائها عن طريق الحقن , تساوي المقادير الدوائية, سهولة و انتظام تعبئتها و إخراجها من الأوعية و سهولة مدها على الجل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6164280"/>
            <a:ext cx="8353440" cy="504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ن السوائل اللانيوتونية و يغلب عليها النموذج شبه البلاستيك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140360" y="404640"/>
            <a:ext cx="4608360" cy="505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عوامل المؤثرة في لزوجة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1052640"/>
            <a:ext cx="8353440" cy="93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- الطور الداخلي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: نسبة الطور المبعثر, التآثر بين الأجزاء و التجمعات أبعاد الأجزاء المبعثرة وتجانسها, لزوجته التي تتعلق بطبيعته الكيمي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060640"/>
            <a:ext cx="8353440" cy="936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- الطور المستمر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:لزوجته ووجود مواد مزيدة للزوجة,تركيبه الكيميائي و قطبيته و درجة حموضته, تركيز الكهارل إذا كان الوسط قطب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3068640"/>
            <a:ext cx="8353440" cy="936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- العامل الاستحلابي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:طبيعته الكيميائية, تركيزه و درجة انحلاله في  كل من الطورين و نمط المستحلب, ثخانة الطبقة و خصائصها الانسي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5280" y="4076640"/>
            <a:ext cx="8353440" cy="1513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ن أهم هذه العوامل النسبة الحجمية للطور المبعثر, علاقة انشتا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ثا*ن)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*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علاقة ريتشاردسون :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ها</a:t>
            </a:r>
            <a:r>
              <a:rPr b="1" lang="ar-SY" sz="2400" spc="-1" strike="noStrike" baseline="30000">
                <a:solidFill>
                  <a:srgbClr val="000066"/>
                </a:solidFill>
                <a:latin typeface="Arial"/>
              </a:rPr>
              <a:t>ثا*ن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أو لغ (لز/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) = ثا * 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5280" y="5732640"/>
            <a:ext cx="8353440" cy="936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زداد اللزوجة بازدياد الطور المبعثرإلى حد ما بعدها ينقلب المستحلب النعومة و التجان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500720" y="333360"/>
            <a:ext cx="404496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أشكال عدم  ثبات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0360" y="1125360"/>
            <a:ext cx="280836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نفصال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1700280"/>
            <a:ext cx="8353440" cy="1512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قص سريع في سطح الفصل و هو غير قلوب (إعادة استحلاب جديدة) اندماج القطيرات وفق مرحلتين : سريعة (تتعلق بطبيعة المستحلب) ثم بطيئة (تعبر عن تخرب المستحلب و تتعلق بدرجة النعو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5280" y="3284640"/>
            <a:ext cx="8353440" cy="14396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انتشار الجزيئي و هو تشكل قطيرات كبيرة على حساب القطيرات الصغيرة دون أن يكون هناك تماس بينهما (تنقص ثباتية ز/م بازدياد قطبية الطور الزيتي , و تزداد بزيادة عدد ذرات الكربون  ف 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4940280"/>
            <a:ext cx="8353440" cy="15130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حل بإضافة مادة قليلة الانحلال جدا في الماء(ف ه ذات سلسلة طويلة) إلى الطور الزيتي المتصف ببعض الخصائص القطبية (ف ه قصيرة , زيوت حيوانية أو نبات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308720" y="333360"/>
            <a:ext cx="144000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جم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5280" y="907920"/>
            <a:ext cx="8353440" cy="19447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لا يسبب بالضرورة تخرب المستحلب  (نظرية الغروانيات) بعض حالات التجمع لا تفسر بهذه النظرية و إنما بتشكل طبقة ثنائية الجزيئات من العامل الاستحلابي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)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زوال الروابط المحبة للزيت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عندما يكون تركيزه أعلى من ت م ح و الزيادة التالية تؤدي إلى تشكل المذيل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4360" y="2997360"/>
            <a:ext cx="3024360" cy="50292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قشد أو( الترس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5280" y="3573360"/>
            <a:ext cx="8353440" cy="1440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و نزوح الأجزاء المبعثرة نحو الأعلى (الأسفل) حيث تشكل في تلك المنطقة مستحلبا مركزا نتيجة نقص المسافة بين الأجزاء و تتميز المستحلبات المتقشدة أوالمترسبة بتشكل طبقة رائقة من الطو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084640"/>
            <a:ext cx="8353440" cy="144000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قشد = كثافة اقل للطور المبعثر , ترسب= كثافة أكبر للطور المبعثر علاقة ستوكس : سر =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ر</a:t>
            </a:r>
            <a:r>
              <a:rPr b="1" lang="ar-SY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*(ك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ك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)*ث/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لز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(لا تنطبق على الجمل المبعثرة المركزة و لكنها تتضمن كل العوامل المؤثرة فيه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و ظاهرة قلوبة (رج بسيط) إلا أنها تسهل الاندماج (قصر المسافة) في حالة التجمعات : تتصرف بشكل تجمعات مما يزيد من سرعة الترسب أو التقشد (تناسب مع مربع نصف قطر الأجزاء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5280" y="198900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مكن أن يحدث تقشد(ترسب) و تجمع و اندماج في نفس الوقت و تحل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بالتحكم  بالانسيابية(زيادة اللزوجة)  أو تشكل حاجز مناسب من جزيئات العامل الاستحلاب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360" y="3502080"/>
            <a:ext cx="5256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غير نمط المستحلب أو انقلاب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407664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حدث بسب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 البنية الكيميائية للعامل الاستحلابي الذي يصبح  ذا خصائص توجه إلى النمط المع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507996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تحدث بخاصة في مستحلبات ز/م المحضرة باستعمال صابون قلوي عندما يضاف لها شوارد الكالسيوم أو المغنيزيوم أو الزنك و الحل بإضافة كمية إضافية من العامل الاستحل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95280" y="33336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عمال كمية كبيرة من الطور المبعثر لا يمكن استيعابه (حجم قطيرات واحد و غير قابلة للإنضغاط) 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74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, ز/م , م/ز (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OE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5280" y="133020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درجة الحرارة , ارتفاعها ينقص من تميه المجموعات المحبة للماء في جزيئات العامل الفعال سطحيا عديم الشحنة, حرارة انقلاب الط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2494080"/>
            <a:ext cx="296568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حديد تركيب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3213000"/>
            <a:ext cx="5256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حديد باستعمال العوامل الفعالة سطح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78936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الفضلى ,ت م ز للعامل الاستحلابي أعلى من ت م ز الفضلى = ميال للتقشد, أخفض = لزجا و تندمج قطيراته بسرعة بتأثير الحر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5280" y="5388120"/>
            <a:ext cx="8353440" cy="18003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نصح : مزيج عاملين , ز/م سبان و توي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6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, م/ز سبان و توي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8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, الكريمات  عامل واحد مع مزيد للقوام ,غالبا غول دسم أو مزيج أغوال دسمة تسهم في تشكيل الغلاف في سطح الف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43280" y="4797360"/>
            <a:ext cx="4105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نتخاب العوامل الاستحل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780000" y="260280"/>
            <a:ext cx="496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تحديد قيمة التوازن المائي الز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83664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عد معرفة ت م ز الفضلى للزيت و للعاملين الاستحلابيين تحدد نسبة كل منهما و ذلك بحيث تكون قيمة ت م ز للمزيج مطابقة ل ت م ز الفضلى للزيت و يمكن تحديد نسبة كل منهما وفق العلاقة التا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2271600"/>
            <a:ext cx="8353440" cy="106524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 م ز الفضلى = 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* ت م ز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+ 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* ت م ز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/ (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+ 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80000" y="2924280"/>
            <a:ext cx="496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تحديد كمية العامل الاستحلا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350028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تعلق ب : كمية الطور المبعثر, نعومة الأجزاء الناتجة أثناء التحضير عمليا : نمط ز/م نستعمل نسبة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من كمية الطور الزيتي أما م/ز فمن الضروري استخدام كمية أكبر من العامل الاستحلاب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00000" y="4997520"/>
            <a:ext cx="784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حديد باستعمال العوامل الفعالة سطحيا مع مواد مزيدة للزو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5280" y="558972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خاصة عندما يكون الطور المبعثر       - أقل م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(تقشد, ترسب) وننقص العامل الاستحلابي (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)    - نسبة عالية من الطور المبعث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43680" y="1293840"/>
            <a:ext cx="4082400" cy="2270160"/>
            <a:chOff x="643680" y="1293840"/>
            <a:chExt cx="4082400" cy="2270160"/>
          </a:xfrm>
        </p:grpSpPr>
        <p:sp>
          <p:nvSpPr>
            <p:cNvPr id="99" name=""/>
            <p:cNvSpPr/>
            <p:nvPr/>
          </p:nvSpPr>
          <p:spPr>
            <a:xfrm>
              <a:off x="1113120" y="143640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3120" y="322848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3680" y="1293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2280" y="316512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789360" y="560520"/>
            <a:ext cx="3024360" cy="26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86320" y="404640"/>
            <a:ext cx="1727280" cy="15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73600" y="404640"/>
            <a:ext cx="172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97240" y="907920"/>
            <a:ext cx="1584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779560"/>
            <a:ext cx="551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2520" y="476280"/>
            <a:ext cx="7129440" cy="792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سرعة التغير تزداد بسرعة أكبر من قوة الضغط فاللزوجة لا تبقى ثابتة بل تنقص كلما كانت قوة الضغط كب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1320" y="2060640"/>
            <a:ext cx="2089080" cy="863640"/>
          </a:xfrm>
          <a:custGeom>
            <a:avLst/>
            <a:gdLst/>
            <a:ahLst/>
            <a:rect l="l" t="t" r="r" b="b"/>
            <a:pathLst>
              <a:path w="1316" h="499">
                <a:moveTo>
                  <a:pt x="0" y="0"/>
                </a:moveTo>
                <a:cubicBezTo>
                  <a:pt x="163" y="162"/>
                  <a:pt x="326" y="325"/>
                  <a:pt x="545" y="408"/>
                </a:cubicBezTo>
                <a:cubicBezTo>
                  <a:pt x="764" y="491"/>
                  <a:pt x="1040" y="495"/>
                  <a:pt x="1316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4880" y="3932280"/>
            <a:ext cx="7777080" cy="792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أهميتها في تحضير المستحضرات التي يرتبط ثباتها بازدياد اللزوجة و بما أن اللزوجة تعود فور توقف الضغط (صعوبة انسياب إذا كانت كميتها كبير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3600" y="4869000"/>
            <a:ext cx="2800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النموذج المتمدد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2520" y="5587920"/>
            <a:ext cx="712944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كون الأجزاء متباعدة هنا , تعرضها للضغط يجعل الأجزاء تقترب من بعضها و تزداد لزوجتها كما في المعلقات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44800" y="1293840"/>
            <a:ext cx="4131000" cy="2270160"/>
            <a:chOff x="4744800" y="1293840"/>
            <a:chExt cx="4131000" cy="2270160"/>
          </a:xfrm>
        </p:grpSpPr>
        <p:sp>
          <p:nvSpPr>
            <p:cNvPr id="114" name=""/>
            <p:cNvSpPr/>
            <p:nvPr/>
          </p:nvSpPr>
          <p:spPr>
            <a:xfrm>
              <a:off x="5262840" y="143640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62840" y="322848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4800" y="129384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52000" y="316512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219640" y="404640"/>
            <a:ext cx="3326040" cy="648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طرق تحضير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40360" y="1685880"/>
            <a:ext cx="2808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1125360"/>
            <a:ext cx="446400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رتيب إضافة مكونات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2276640"/>
            <a:ext cx="8353440" cy="14626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طور المبعثر و العامل الاستخلابي المنحل فيه إلى الطور الخارج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ستخدم ف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40524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لمستحلبات التي يتشكل فيها العامل الاستحلابي أثناء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398952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ستحلبات م/ز ونسبة الماء أعلى من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% (تجنب انقلاب النم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51160" y="4581360"/>
            <a:ext cx="7523280" cy="520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ثانية أو طريقة انقلاب الط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515772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في مستحلبات ز/م وتعتمد على وضع مزيج العوامل الاستحلابية  في الطور الزيتي ثم إضافة الطور المائي الخارجي (أفضل من الأول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61498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مواد المزيدة للزوجة (البارد)إلا المواد المنصهرة في حرارة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364000" y="333360"/>
            <a:ext cx="3384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درجة حرارة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907920"/>
            <a:ext cx="8353440" cy="22269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رتفاعها ينقص التوتر السطحي للسوائل كما يزيد من القدرة الحركية للقطيرات (زيادة احتمال الاصطدام و الاندماج), لذلك يتم اختيار درجة التحضير تبعا( انحلالية العوامل الاستحلابية, و انصهار المواد الدسمة الصلب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20000" y="2852640"/>
            <a:ext cx="1728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تحري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3429000"/>
            <a:ext cx="835344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ذلك لزيادة النعومة (حد معين) , الهواء(تشكيل طور ثالث ورغوة تعيق التعبئة) الدوامة = هواء و الحل بالجدران الجان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20000" y="4494240"/>
            <a:ext cx="1728720" cy="1373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مجانس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5661000"/>
            <a:ext cx="3960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مجانسات ذات الصما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6222960"/>
            <a:ext cx="3960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مجانسات الدو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0752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إجبار المستحلب على المرور عبر ثقوب صغيرة تحت تأثير ضغط كب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156360" y="404640"/>
            <a:ext cx="2389320" cy="648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حفظ 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87640" y="1125360"/>
            <a:ext cx="5761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عد وسطا لنمو العضويات الدقيقة لذلك يج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5280" y="16858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استخدام مواد أولية قليلة التلوث ما أمكن (ماء و مكونات مختلف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226224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مراعاة النظافة التامة للأدوات المستخدمة في مختلف المراح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5280" y="2838600"/>
            <a:ext cx="8353440" cy="35067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- إضافة المادة الحافظة المناسبة (حرة), تركيزها الفعال يرتبط بمعامل توزعها بين الطورين (طبيعة و نسبة الطور الزيتي و طبيعة الطور المائي واحتواؤه على مكونات تنقص من عامل التوزع بين الزيت و الماء كالغليسيرين و البروبيلين غليكول)  و بقدرتها على تشكيل معقدات غير فعالة مع  بعض المكونات الموجودة في المستحلب, ال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5141880"/>
            <a:ext cx="835344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خدام مضادات أكسدة في حال احتواء المستحلبات على مواد متأكس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51640" y="404640"/>
            <a:ext cx="2894040" cy="648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راقبة المستح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08720" y="1125360"/>
            <a:ext cx="324000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حديد نمط المستح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0360" y="1773360"/>
            <a:ext cx="2808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طريقة التم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0360" y="2333520"/>
            <a:ext cx="280836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طريقة التلو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4920" y="2924280"/>
            <a:ext cx="403380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طريقة نقل التيار الكهرب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19640" y="3573360"/>
            <a:ext cx="3529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حديد توزع أبعاد الأ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5280" y="4221000"/>
            <a:ext cx="8353440" cy="1889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عطي فكرة عن ثباته , فعالية طريقة التحضير, مقارنة طرق التحض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يتم التحديد بعد التمديد (الانتباه إلى ثبات المستحلب و عدم تغير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651640" y="5357880"/>
            <a:ext cx="3097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مجه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651640" y="5950080"/>
            <a:ext cx="3097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الضو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5373720"/>
            <a:ext cx="309708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طريقة الإلكترو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0" y="333360"/>
            <a:ext cx="4176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تحديد الخصائص الانسي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5280" y="907920"/>
            <a:ext cx="8353440" cy="26535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غير هذه الخصائص أثناء التحضير أو التخزين يجعل المستحلب غير مناسب للاستعمال المخصص له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(سهولة الإعطاء عن الطريق الحشوي, إمكانية تناول مقادير متساوية, سهولة و انتظام التعبئة, سهولة المد) كما أنها توضح تغير الخصائص الفيزيائية (أبعاد الأجزاء و تجمعه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838600"/>
            <a:ext cx="2952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800000"/>
                </a:solidFill>
                <a:latin typeface="Arial"/>
              </a:rPr>
              <a:t>الفحوص المس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0" y="3573360"/>
            <a:ext cx="5400720" cy="94716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>
                  <a:alpha val="0"/>
                </a:srgbClr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حرارة مرتفعة و التثفيل, التبريد وعدد مرات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570280" y="836640"/>
            <a:ext cx="2619720" cy="2127600"/>
            <a:chOff x="5570280" y="836640"/>
            <a:chExt cx="2619720" cy="2127600"/>
          </a:xfrm>
        </p:grpSpPr>
        <p:sp>
          <p:nvSpPr>
            <p:cNvPr id="119" name=""/>
            <p:cNvSpPr/>
            <p:nvPr/>
          </p:nvSpPr>
          <p:spPr>
            <a:xfrm>
              <a:off x="5570280" y="83664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1560" y="246240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83640" y="10807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66200" y="25653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757840" y="3362400"/>
            <a:ext cx="2800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3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النموذج البلاستيكي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224240"/>
            <a:ext cx="860400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تكون الجزيئات الضخمة بتركيز مرتفع فتحجز السائل فيما بينها لذلك لا بد من ضغط كافي للتغلب على قوى الارتباط بينها يسمى بحد الانسياب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450040"/>
            <a:ext cx="8604000" cy="79200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سائل البلاستيكي المثالي هو السائل الذي يتصرف تصرف السوائل النيويونية بعد حد الانسياب (حالة نادرة لذلك فمنحنى الانسياب يكون مشابها للنموذج شبه البلاستيكي)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77720" y="841320"/>
            <a:ext cx="2619720" cy="2127600"/>
            <a:chOff x="1377720" y="841320"/>
            <a:chExt cx="2619720" cy="2127600"/>
          </a:xfrm>
        </p:grpSpPr>
        <p:sp>
          <p:nvSpPr>
            <p:cNvPr id="127" name=""/>
            <p:cNvSpPr/>
            <p:nvPr/>
          </p:nvSpPr>
          <p:spPr>
            <a:xfrm>
              <a:off x="1377720" y="84132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9000" y="2467080"/>
              <a:ext cx="16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891080" y="10854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3640" y="257004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373480" y="103176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0" y="907"/>
                </a:moveTo>
                <a:cubicBezTo>
                  <a:pt x="98" y="869"/>
                  <a:pt x="196" y="831"/>
                  <a:pt x="272" y="680"/>
                </a:cubicBezTo>
                <a:cubicBezTo>
                  <a:pt x="348" y="529"/>
                  <a:pt x="401" y="264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373480" y="1310760"/>
            <a:ext cx="936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875200" y="404640"/>
            <a:ext cx="2800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4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تغير القوام بالرج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96160" y="2313000"/>
            <a:ext cx="4552200" cy="2270520"/>
            <a:chOff x="2396160" y="2313000"/>
            <a:chExt cx="4552200" cy="2270520"/>
          </a:xfrm>
        </p:grpSpPr>
        <p:sp>
          <p:nvSpPr>
            <p:cNvPr id="135" name=""/>
            <p:cNvSpPr/>
            <p:nvPr/>
          </p:nvSpPr>
          <p:spPr>
            <a:xfrm>
              <a:off x="2865600" y="245592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65600" y="4248000"/>
              <a:ext cx="32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96160" y="23130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ل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9680" y="4184640"/>
              <a:ext cx="95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000" spc="-1" strike="noStrike">
                  <a:solidFill>
                    <a:srgbClr val="cc0000"/>
                  </a:solidFill>
                  <a:latin typeface="Arial"/>
                </a:rPr>
                <a:t>الزم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868480" y="1268280"/>
            <a:ext cx="3326040" cy="2737080"/>
            <a:chOff x="2868480" y="1268280"/>
            <a:chExt cx="3326040" cy="2737080"/>
          </a:xfrm>
        </p:grpSpPr>
        <p:sp>
          <p:nvSpPr>
            <p:cNvPr id="140" name=""/>
            <p:cNvSpPr/>
            <p:nvPr/>
          </p:nvSpPr>
          <p:spPr>
            <a:xfrm>
              <a:off x="2868480" y="1341360"/>
              <a:ext cx="2952720" cy="266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81440" y="1268280"/>
              <a:ext cx="331308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042920" y="1268280"/>
            <a:ext cx="712944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بعض السوائل  تتحول من حالة الهلامة إلى السيولة بعد الرج  و هي ظاهرة قلوبة  فعند تركها ساكنة لفترة من الزمن تعودإلى حالة الهلامة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1960" y="4797360"/>
            <a:ext cx="2533680" cy="503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معاملات اللزوجة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589720"/>
            <a:ext cx="7129440" cy="64764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نستخدمها للتعرف على بعض الخصائص الانسيابية للجمل المبعثرة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620640"/>
            <a:ext cx="8713800" cy="792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علاقة آينشتاين التي توضح العلاقة بين لزوجة الجمل الغروانية الممددة التي ينعدم فيها التآثر بين الأجزاء  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ثا*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2011320"/>
            <a:ext cx="8713800" cy="8650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و في حالة الأجزاء المبعثرة ذات الشكل الكروي و غير القابلة لتغيير شكل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=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*(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*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475080"/>
            <a:ext cx="8713800" cy="11062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-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لزوجة النسبية و هي النسبة بين لزوجة الجملة المبعثرة ولزوجة الطور المست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 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ن</a:t>
            </a:r>
            <a:r>
              <a:rPr b="1" lang="ar-SY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= لز /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4940280"/>
            <a:ext cx="8975520" cy="1584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3-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لزوجة النوعية وهي زيادة لزوجة الجملة المبعثرة بالنسبة للزوجة الطور المست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لز</a:t>
            </a:r>
            <a:r>
              <a:rPr b="1" lang="ar-SY" sz="3600" spc="-1" strike="noStrike" baseline="-25000">
                <a:solidFill>
                  <a:srgbClr val="000066"/>
                </a:solidFill>
                <a:latin typeface="Arial"/>
              </a:rPr>
              <a:t>نو</a:t>
            </a:r>
            <a:r>
              <a:rPr b="1" lang="ar-SY" sz="48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=( لز- 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)/لز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ن -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=2,5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ن =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2,5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0000" y="549360"/>
            <a:ext cx="7632720" cy="720720"/>
          </a:xfrm>
          <a:prstGeom prst="rect">
            <a:avLst/>
          </a:prstGeom>
          <a:gradFill rotWithShape="0">
            <a:gsLst>
              <a:gs pos="0">
                <a:srgbClr val="5e5866"/>
              </a:gs>
              <a:gs pos="50000">
                <a:srgbClr val="ccbfdf"/>
              </a:gs>
              <a:gs pos="100000">
                <a:srgbClr val="5e58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فصل الثاني : المستحلبات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604880"/>
            <a:ext cx="7777440" cy="9604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جمل غير متجانسة مكونة من سائلين غير ممتزجين يتبعثر أحدهما في الآخر</a:t>
            </a: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قلة الثبات , ماء و مادة عضوية (زيت عادة ) المواد المنحلة , النم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2781360"/>
            <a:ext cx="2533680" cy="6476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نظريات الاستحلاب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3573360"/>
            <a:ext cx="4456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سطح الفصل – التوتر في سطح الفصل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429264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= 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- 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428940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قاعدة أنتونو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511956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= ع /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5948280"/>
            <a:ext cx="324000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ع  = 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5013360"/>
            <a:ext cx="3025800" cy="1584360"/>
          </a:xfrm>
          <a:prstGeom prst="rect">
            <a:avLst/>
          </a:prstGeom>
          <a:gradFill rotWithShape="0">
            <a:gsLst>
              <a:gs pos="0">
                <a:srgbClr val="a0c0c3"/>
              </a:gs>
              <a:gs pos="50000">
                <a:srgbClr val="bbe0e3"/>
              </a:gs>
              <a:gs pos="100000">
                <a:srgbClr val="a0c0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العمل الضروري للاستحلاب يتناسب طردا مع جداء التوتر في سطح الفصل في زيادة سطح التماس بين السائلين</a:t>
            </a:r>
            <a:r>
              <a:rPr b="1" lang="ar-SY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35280" y="5443560"/>
            <a:ext cx="2952720" cy="43344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قد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= تو</a:t>
            </a:r>
            <a:r>
              <a:rPr b="1" lang="ar-SY" sz="2400" spc="-1" strike="noStrike" baseline="-25000">
                <a:solidFill>
                  <a:srgbClr val="000066"/>
                </a:solidFill>
                <a:latin typeface="Arial"/>
              </a:rPr>
              <a:t>آ / ب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×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46880" y="472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00840" y="49575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84360" y="4541760"/>
            <a:ext cx="3277800" cy="689040"/>
            <a:chOff x="2484360" y="4541760"/>
            <a:chExt cx="3277800" cy="689040"/>
          </a:xfrm>
        </p:grpSpPr>
        <p:sp>
          <p:nvSpPr>
            <p:cNvPr id="162" name=""/>
            <p:cNvSpPr/>
            <p:nvPr/>
          </p:nvSpPr>
          <p:spPr>
            <a:xfrm>
              <a:off x="2484360" y="4599720"/>
              <a:ext cx="2700000" cy="344880"/>
            </a:xfrm>
            <a:prstGeom prst="rect">
              <a:avLst/>
            </a:prstGeom>
            <a:gradFill rotWithShape="0">
              <a:gsLst>
                <a:gs pos="0">
                  <a:srgbClr val="878988"/>
                </a:gs>
                <a:gs pos="50000">
                  <a:srgbClr val="cdd1cf"/>
                </a:gs>
                <a:gs pos="100000">
                  <a:srgbClr val="8789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2400" spc="-1" strike="noStrike">
                  <a:solidFill>
                    <a:srgbClr val="006600"/>
                  </a:solidFill>
                  <a:latin typeface="Arial"/>
                </a:rPr>
                <a:t>عامل فعال سطح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88240" y="4541760"/>
              <a:ext cx="673920" cy="689040"/>
            </a:xfrm>
            <a:prstGeom prst="rect">
              <a:avLst/>
            </a:prstGeom>
            <a:gradFill rotWithShape="0">
              <a:gsLst>
                <a:gs pos="0">
                  <a:srgbClr val="878988"/>
                </a:gs>
                <a:gs pos="50000">
                  <a:srgbClr val="cdd1cf"/>
                </a:gs>
                <a:gs pos="100000">
                  <a:srgbClr val="87898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73440" y="4656960"/>
              <a:ext cx="0" cy="5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691240" y="4554360"/>
            <a:ext cx="503280" cy="865080"/>
            <a:chOff x="5691240" y="4554360"/>
            <a:chExt cx="503280" cy="865080"/>
          </a:xfrm>
        </p:grpSpPr>
        <p:sp>
          <p:nvSpPr>
            <p:cNvPr id="166" name=""/>
            <p:cNvSpPr/>
            <p:nvPr/>
          </p:nvSpPr>
          <p:spPr>
            <a:xfrm>
              <a:off x="5691240" y="4554360"/>
              <a:ext cx="503280" cy="865080"/>
            </a:xfrm>
            <a:prstGeom prst="rect">
              <a:avLst/>
            </a:prstGeom>
            <a:gradFill rotWithShape="0">
              <a:gsLst>
                <a:gs pos="0">
                  <a:srgbClr val="878988"/>
                </a:gs>
                <a:gs pos="50000">
                  <a:srgbClr val="cdd1cf"/>
                </a:gs>
                <a:gs pos="100000">
                  <a:srgbClr val="878988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463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846600" y="260280"/>
            <a:ext cx="4829040" cy="576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القدرة المقدمة في الاستحلاب تختزن في الجملة</a:t>
            </a: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268200"/>
            <a:ext cx="3240360" cy="5763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Arial"/>
              </a:rPr>
              <a:t>جملة غير ثابتة ترموديناميك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1197000"/>
            <a:ext cx="324036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&gt;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دينة /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1197000"/>
            <a:ext cx="2592360" cy="57636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حلاب صع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2276640"/>
            <a:ext cx="324036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بين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و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دينة /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276640"/>
            <a:ext cx="259236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حلاب سه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76880" y="3357720"/>
            <a:ext cx="324000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تو</a:t>
            </a:r>
            <a:r>
              <a:rPr b="1" lang="ar-SY" sz="2800" spc="-1" strike="noStrike" baseline="-25000">
                <a:solidFill>
                  <a:srgbClr val="000066"/>
                </a:solidFill>
                <a:latin typeface="Arial"/>
              </a:rPr>
              <a:t>آ /ب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 دينة / 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96880" y="3357720"/>
            <a:ext cx="2592360" cy="576000"/>
          </a:xfrm>
          <a:prstGeom prst="rect">
            <a:avLst/>
          </a:prstGeom>
          <a:gradFill rotWithShape="0">
            <a:gsLst>
              <a:gs pos="0">
                <a:srgbClr val="878988"/>
              </a:gs>
              <a:gs pos="50000">
                <a:srgbClr val="cdd1cf"/>
              </a:gs>
              <a:gs pos="100000">
                <a:srgbClr val="8789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ستحلاب تلق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788000" y="333360"/>
            <a:ext cx="359244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العوامل الفعالة سطحيا</a:t>
            </a:r>
            <a:r>
              <a:rPr b="1" lang="ar-SY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052640"/>
            <a:ext cx="7777440" cy="9604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هي مواد تخفض من قيمة التوتر السطحي للسوائل التي تضاف إليها بنتيجة امتزاز جزيئاتها الإيجابي على سطح السائ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205000"/>
            <a:ext cx="7777440" cy="96048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و هي تستخدم كعوامل استحلابية و كمنظفات و كعوامل مبللة أو مبعث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02080"/>
            <a:ext cx="6112080" cy="503280"/>
          </a:xfrm>
          <a:prstGeom prst="rect">
            <a:avLst/>
          </a:prstGeom>
          <a:gradFill rotWithShape="0">
            <a:gsLst>
              <a:gs pos="0">
                <a:srgbClr val="5e605e"/>
              </a:gs>
              <a:gs pos="50000">
                <a:srgbClr val="ccd2cc"/>
              </a:gs>
              <a:gs pos="100000">
                <a:srgbClr val="5e6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2-1- </a:t>
            </a:r>
            <a:r>
              <a:rPr b="1" lang="ar-SY" sz="2800" spc="-1" strike="noStrike">
                <a:solidFill>
                  <a:srgbClr val="990000"/>
                </a:solidFill>
                <a:latin typeface="Arial"/>
              </a:rPr>
              <a:t>امتزاز العوامل الفعالة سطحيا- علاقة جيب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484520"/>
            <a:ext cx="7704360" cy="1465560"/>
          </a:xfrm>
          <a:prstGeom prst="rect">
            <a:avLst/>
          </a:prstGeom>
          <a:gradFill rotWithShape="0">
            <a:gsLst>
              <a:gs pos="0">
                <a:srgbClr val="717571"/>
              </a:gs>
              <a:gs pos="50000">
                <a:srgbClr val="ccd2cc"/>
              </a:gs>
              <a:gs pos="100000">
                <a:srgbClr val="717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الزيادة في سطح الفصل تؤدي إلى زيادة القدرة السطحية للج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66"/>
                </a:solidFill>
                <a:latin typeface="Arial"/>
              </a:rPr>
              <a:t>إضافة مادة تتوضع على سطح الفصل تنقص التوتر فتنقص بالتالي القدرة السطحية (انعدام التماس بين جزيئات الطورين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2:48:37Z</dcterms:created>
  <dc:creator>Tamim Hammad</dc:creator>
  <dc:description/>
  <dc:language>en-US</dc:language>
  <cp:lastModifiedBy>mohammed ali</cp:lastModifiedBy>
  <dcterms:modified xsi:type="dcterms:W3CDTF">2006-01-11T23:16:43Z</dcterms:modified>
  <cp:revision>158</cp:revision>
  <dc:subject/>
  <dc:title>الشريحة 1</dc:title>
</cp:coreProperties>
</file>