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B2E-D762-4217-8EA4-54ADBE0C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2295-8C0B-4784-94AA-E5839382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35D-FF60-4DD9-97AA-9F7D9A24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4B5-7522-49E6-B508-3B4D94F6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642-67EF-4FA7-98DF-6B9371D8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D22A-D9A2-4846-BB78-025081FB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22F-76E0-4FE6-91E1-FEE74943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D97-A3CD-475B-9C9A-101E84D4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4CE7-F208-4813-879A-4A4464EF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9F4-03B2-45B4-9DB6-CB9B7C61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83BB-910F-4565-951E-38C36145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994-7DE5-4CDF-AE37-8B5A5F47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FEF81-215F-4314-9E52-88490642E74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0555F-B318-4A56-9ACA-C027960C632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4:25:49Z</dcterms:created>
  <dc:creator>최봉수</dc:creator>
  <dc:description/>
  <dc:language>en-US</dc:language>
  <cp:lastModifiedBy>맛있다 군만두</cp:lastModifiedBy>
  <dcterms:modified xsi:type="dcterms:W3CDTF">2024-10-01T03:06:09Z</dcterms:modified>
  <cp:revision>3</cp:revision>
  <dc:subject/>
  <dc:title>슬라이드 1</dc:title>
</cp:coreProperties>
</file>