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18E0-E992-469A-B29F-28821688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CC8D-8BF3-4E14-A96B-1F3F6D60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15BF-8B03-4F6F-A04C-79240F71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3FD1-6563-4121-ADAA-EB896551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017-CAB7-4F78-A3BF-25BE8822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51BF-51FC-4606-A6D8-EA7887EA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A18C-1355-482F-B433-4CA2878F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F619-AED6-4631-BA94-52A4D6F4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7DA-9C72-42DD-9894-F56061B2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9F01-6541-449C-8912-7DD337C0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41D6-EDFD-46E7-8243-6D30EBED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C5CD-B6D6-41AB-834A-11674620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F5A08-A43E-4034-9C77-BE79D0F5E89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F988D4-CC0B-4481-8225-877CDB9186A2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4:25:49Z</dcterms:created>
  <dc:creator>최봉수</dc:creator>
  <dc:description/>
  <dc:language>en-US</dc:language>
  <cp:lastModifiedBy>맛있다 군만두</cp:lastModifiedBy>
  <dcterms:modified xsi:type="dcterms:W3CDTF">2024-10-01T03:06:09Z</dcterms:modified>
  <cp:revision>3</cp:revision>
  <dc:subject/>
  <dc:title>슬라이드 1</dc:title>
</cp:coreProperties>
</file>