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CCC-64B7-402E-9242-2B437017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C4E-FEA5-4A50-8D6A-C1CD4A30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0DB-CEBB-4C21-AA27-1F623145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46F-015A-475C-9A44-0223F323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6D5-4098-4DD0-A2A5-E539F45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4DC-270A-43AF-AD86-91CC8D34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2CD-83FC-40FA-A70E-9A9D3B49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B04-18EC-4001-A339-5A6202C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694-9B25-4EC3-9C4A-F28E60AE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A70-A2E8-41AC-A630-3647985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CEC-C82E-4C01-BE46-FFA7FDA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409-B290-4FBF-AF48-4753AE1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67CC-63D1-424E-97CA-B0F37DCBEB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3:35:07Z</dcterms:modified>
  <cp:revision>24</cp:revision>
  <dc:subject/>
  <dc:title>슬라이드 1</dc:title>
</cp:coreProperties>
</file>