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541-EB35-4D8A-9BC5-430E57CF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3EA-1D40-4C88-ADEE-8D55FAE3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6A8-7290-4495-85E8-C30CFE00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D92-149D-4107-B5EC-6D54B107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D8C-143C-4D4E-A828-CE1234EE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A54-9791-422C-9F56-43AE679E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E3F-544D-4E1A-BDB5-A5C5330B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8DF-C2F1-41D4-8A34-A7995BF0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A68-BF89-4E71-846E-D747386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3D4-34E4-441E-AD31-77AD80A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04E-8FA8-43FE-9B2E-0B679A2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CA2-4204-49D3-BDAF-DF5B089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B207-76E4-4861-A093-A14C3A1B2C9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3:35:07Z</dcterms:modified>
  <cp:revision>24</cp:revision>
  <dc:subject/>
  <dc:title>슬라이드 1</dc:title>
</cp:coreProperties>
</file>