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398-2CA3-4743-B996-6541796B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C62-9BFF-43AE-9368-9CB25313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0DB-D6E6-4665-9C8C-2DCB553A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827-1897-4E3B-916F-1B27A8D9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086-F0AD-4F08-8086-4CAF3B7D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802-A51B-4EB3-9016-3971C0D5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1407-95A0-49A2-AA65-90663401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C0D-1602-4056-BEFD-71420A1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89C-DF26-4C80-B01C-BE2E6A1F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29C-26A0-4BA6-9E7F-05852C0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76A-1D96-4FBF-A0A4-D29DF920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5FB-8364-4204-87B6-FAC05057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B0D4-C72F-4E1D-8F06-B8827428700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7:46:34Z</dcterms:modified>
  <cp:revision>22</cp:revision>
  <dc:subject/>
  <dc:title>슬라이드 1</dc:title>
</cp:coreProperties>
</file>