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82C-CD67-4B6B-931D-843259B4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572-0F13-4554-94F2-F45E940A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3DB-3FD5-43C8-9FF2-2BBBE72D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390-FC0C-4A89-AC55-EBB2F91A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863-5086-4B9D-8036-231F16EF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DDB-0629-4CB4-B0D3-8864764F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93B-EBD2-4AD6-9E73-8806EF6D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D8A-1751-4648-8D2D-5B197EA1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338-AF9D-431C-975F-62B69C7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8D9-F929-4C30-AEC5-6CB290D3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ADA-1141-4706-8C97-F6A30457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441-A08D-45AF-97C7-36112730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A238-E7C9-467C-89A0-BFD2975DA7F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7:46:34Z</dcterms:modified>
  <cp:revision>22</cp:revision>
  <dc:subject/>
  <dc:title>슬라이드 1</dc:title>
</cp:coreProperties>
</file>