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A2D4-5E4A-4AEC-9305-E09CAF091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E550-B1BD-438E-B6ED-2C8E0DF2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1DA1-4A54-4EBA-B5A1-74F4E8A5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DD2-7394-4DE4-9CDB-ECDED24C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690D-11B7-44CE-A2B1-B4EB4707C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551C-04AF-4D42-A500-97F75133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EEA-9190-4ED2-9B4C-AB85C7E6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D6E-6429-4620-838D-C1F7930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B53-097D-44E6-999E-04D84D3C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332-813E-4607-B064-3343B32B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2529-8206-4FBF-8622-0744EDD2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51F7-73E0-4B23-9FEA-254A6E16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54B7-9D83-4FE4-AF62-0E98C804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C11E-F98F-40FD-8094-9DAF33ED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78F-1F9E-4C8A-BF38-300375AD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BAC5-03D9-4B56-8EFB-9D2FFE2B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2EF3-D23A-41A5-93E2-749ED7B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712-9B36-465C-B55A-3813989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8DE9-864E-4B28-9DF4-F61A2C8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06B1-36F5-44D1-A927-40E5420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63A0-EE1A-4EDD-8738-97A09B15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2839-E1D1-42B2-A0F7-CA0DFBCC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86C0-96EC-4D08-851F-1BD562B4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4A92-4BCC-450A-A35E-08CB4E9E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18D7-7BA9-4175-9FEA-99672B0B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0BD8-D6B6-4F5F-BBED-33603D4D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F415-7B32-46BD-BF36-45C1F95D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AEBF-8027-4429-9402-2F658E33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0B8-0FE7-4B81-BB90-F412269C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B125-D709-4A1D-8258-632DDA38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34D5-8EE2-4DC3-89F1-8F63E4F5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96B7-4533-4143-A597-13840AC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0B34-DA81-4BB4-9806-C2CE3BC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A74B-3966-47DF-BED3-4C170EC5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D2ED-B30E-4518-B6EB-A2B29AE3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D56B-0E8C-4A27-AEFB-3A7A073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1B147-A95B-4C7F-877A-B13E82EC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3D0EE-BA71-4FB2-BDD9-74B152B2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78E1-9D57-4EB8-8839-EBF04CB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7AB-7FEF-42C2-ACF1-85BB515D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157F-FFCB-4EA6-A243-7A44E005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52B7-CF45-42A2-8106-CEDA1639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A358-AE96-4771-81DB-9B5B03E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C6C5-D1DC-43FF-9A75-2400256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13FE2-9919-4EF6-945C-5C67E73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C54E-A90F-4E51-B16D-336F5BFB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BF3F-7D86-4FE3-8F62-81FA4F8E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607D-83B3-49CA-96ED-94AE2D2E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E1950-01B8-45FF-BC76-7AF3D37D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CCC47-DF67-4A7A-807F-AED26FB7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276-BEC2-44FD-B6E0-49F7D31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A479E-DB04-478A-B6E0-DBD9F19E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7E3D0-9F5B-45EB-AB32-903A20F8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9AE21-BDB4-4E87-A3E0-6F55F3F4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39D3-41CA-4E77-86D2-B1F96FE2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4D00-79A7-4227-885B-5691D3D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66124-8973-4993-A0FE-577F311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7FF5-DD94-4EAF-860B-8A5B9C0E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55EE-98DD-480B-B783-0346553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B2F3-D200-4765-846B-831FF68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DC327-E1C1-41C3-85AD-A9C53545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99D-2982-4980-9CDA-57EE4DBE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CA4E-9395-41C7-83F0-9FD1B1B6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224-73CD-45B4-8CB7-0C64708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595-E1CD-4076-A3E5-C3A34F3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795-54C5-4063-9BCD-EC327D7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D18F-A6E9-4E62-97B2-B5BA0DC9C91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606-DA5B-4570-8D3B-AD7F5D5822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76A1-ABD1-47AF-A7F2-141B223840C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6A3-0E57-4858-9CE1-564E0590BE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2E4-C816-4135-A5B6-A6FE6A1D7C0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E15F-D933-48C3-AFD1-67899BE3931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6A1-C200-4BD7-A43F-2463C6AB9E6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6F0-0A20-4694-B6A6-735E8821323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9D7-20A4-462E-BAB1-540B548EADC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4E0-469E-4A63-ACF9-9D7F7FF791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740D-6B99-49F6-9861-0AD857245F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imula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U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8AF8-7E3C-49FE-974C-9717848DCB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basic idea behind simula is to add to algol the concept of a collection of programs, called processes, conceptually operating in paralle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simula program, the definition of a process class is accomplished in a block which is simulas fundamental way for program decompos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50A-F826-45C9-ACF6-7A54DAC52E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lock is an independent, self contained part of the progra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ta structure is defined as a part of the block head, the statements of the block definite the operation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lock as being a formal description of an aggregated data structure and the actions defined by the block statem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a block is executed a block instance is gener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mula is capable of generating several instances of a given block which may interact or exist at the same tim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eed to manipulate block instances and relate block instances to each other makes it necessary to give names to the individual block instances and structures the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mula does it by an extensive list processing capability, build into the languag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7A97-7B2A-427A-891B-D0D7F16777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the broad rangeof simula statements there are special simulation oriented statements that can postpone actions, render the process inactiv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ulas program is a set of blocks that organize the total execution as a sequence of active phases related to different block instanc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F59F-6491-4B0D-8861-B5F87D92A7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ula 67 provides 10 random number procedures for drawing samples from different probability distributions, including uniform,exponential,normal poisson and erlan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though there is no automatic collection of statistics of simula 67 a procedure accum is vailable to accumulate the simulated time integral of any variable desired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09:14:03Z</dcterms:created>
  <dc:creator>sri</dc:creator>
  <dc:description/>
  <dc:language>en-US</dc:language>
  <cp:lastModifiedBy>Manjula</cp:lastModifiedBy>
  <dcterms:modified xsi:type="dcterms:W3CDTF">2011-03-19T16:42:37Z</dcterms:modified>
  <cp:revision>6</cp:revision>
  <dc:subject/>
  <dc:title>Slide 1</dc:title>
</cp:coreProperties>
</file>