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DD04-987F-4557-AB67-969BE781D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B07D-6830-4A24-99A5-C815FCB54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62C4-C3EF-4B09-9C3C-75422D5BF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609A-BDCC-4FB9-AB04-6FAC4C9A8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C60D-4DA8-40C2-A3B3-77ACB6235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9A06-D898-4A12-9D3F-4C5848D18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BE8-9D93-4984-AC79-94F87E15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BE2-2DAF-480A-9EB4-B1346C08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F8C-19F3-4AF5-BFFD-02E2E5EF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6A1-B7B8-4CBF-A8F6-E740B6A4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C895-AD72-4BEE-9F82-8ABBEC66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95D3-11B6-494E-BEB9-276C8F13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329E-7ED3-4BAB-85CD-B2F2116F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107C-1677-4F0A-8C82-6BD530CE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160B-4317-4010-84C4-D23EA4B5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A666-6CBE-42CD-B2B7-D28A7140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F5F3-4583-4325-9B33-7AE47F5E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8F2-43F1-42CC-ABB8-5C6ABCFF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E5EC-EAF0-4B8A-8617-C5544A73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6C00-5829-469C-A32E-0EEF9474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C02E-1BDC-443C-9980-0A7C5B12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4FBF-0D42-4F25-9C0E-02399B53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DFFF-CA58-4307-AA71-67A6C489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6F4B2-4DC7-4D0A-8DC5-9B719C80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CD02B-4989-41C7-AE52-740BA67E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DC7A-FF51-46E7-BCF3-7E9D7ADB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7A8E-826A-4673-8358-7DD7F8A2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A4182-6C66-4A4F-A073-36345B05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0C4-D5A7-4B81-9671-B3435E41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A8D9-8577-49A3-96F2-19603136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3520-636B-4FFD-B92E-E8BAEB09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4518-FDA3-49E3-AA15-5366C0F1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998FF-852E-4A96-81D0-70C0EFF0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0EBB-4609-484A-8212-49D23C44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26C8A-FC57-41DE-95AB-02AD18A8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224B-45CE-4F7F-9712-3C2EAAA0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9A013-B635-4E15-8A8F-6E9A6D5A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A82A4-BC4E-4B12-9F9C-C5D14742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79E32-3BC6-407C-8D15-89188BCE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364-EE2D-4F03-AA40-D42BCDD3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AB085-1BB2-4CBC-8F21-F141231D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73EB-318E-416E-A82F-7DF469E1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2DDE5-806B-4BF2-9209-887263C9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312C5-33D1-4E85-BE52-A00D8896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69AD3-D0AD-4A81-9FEF-FB28857B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E3D44-345F-4E18-907F-54883EB0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3CE1-E71D-49BF-AAED-98604C35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085C-D794-48AD-8555-D4C01B39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1A791-6970-4950-AA2D-85AB35C2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D97F5-077B-4E2B-8046-D8A32CBB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D0A-A23D-43A7-BB72-660DF43A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F1F53-CD5D-4CA6-9470-1D6B0609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CF4D3-981A-481B-BD21-B4175BCD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7144F-F787-4579-89F2-7F2A07F5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44D51-01A9-4523-BD51-0D8D3F87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20B25-A47E-44B3-B550-2B878672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5B8FB-0D3D-43DC-A806-B476F158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AE326-5613-4287-BF61-B52792DB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383F1-69D6-412D-A80A-93C72B9B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C75B2-5950-44FE-8F0B-1E2FC527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0FF31-FE00-4376-9847-62ABE9C0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2F3-6145-48A3-9F3F-6B6FFBFE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D6A82-CAA3-4D27-9D30-B74ACB30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900-8473-47B1-8B95-84F9AE28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5B2E-5284-4630-BC1A-42B2C26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459-DE23-4600-B172-228F7AF4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50A2-1A98-40FD-B15A-F6AE1D5DF406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4C94-47C8-47DE-A6F2-EAC198ED2AF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052A-837E-4A19-8420-0F6F9414740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07E1-F00B-4BE8-8F0C-EBC2DF8C531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4B07-4066-4E32-8D0A-ECC62A9D6924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D951-8885-4F93-A560-CB16EB8315D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3E55-C4FF-4247-B6E3-951F542ABF06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D33A-498F-4FB2-923F-30B516B6B76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EA58-E2CF-4EC9-8CFB-46FCAF762A8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729C-13EC-427B-8A45-A5F93B8FB0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49EC-FFE4-4099-9B7C-303B898F5B5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Simula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IMU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A2D9-E62F-499A-B15C-4C09DDEC54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basic idea behind simula is to add to algol the concept of a collection of programs, called processes, conceptually operating in paralle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simula program, the definition of a process class is accomplished in a block which is simulas fundamental way for program decomposi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1F5F-455E-4F4B-AF1D-D311A8114D7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block is an independent, self contained part of the program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ata structure is defined as a part of the block head, the statements of the block definite the operation ru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block as being a formal description of an aggregated data structure and the actions defined by the block statem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n a block is executed a block instance is gener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imula is capable of generating several instances of a given block which may interact or exist at the same tim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need to manipulate block instances and relate block instances to each other makes it necessary to give names to the individual block instances and structures them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imula does it by an extensive list processing capability, build into the languag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FBD3-F5B4-4DC0-8DA1-E552FB51F05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the broad rangeof simula statements there are special simulation oriented statements that can postpone actions, render the process inactiv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mulas program is a set of blocks that organize the total execution as a sequence of active phases related to different block instanc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VrseC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8391-8DEA-4148-BA9D-D74C4D7E59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mula 67 provides 10 random number procedures for drawing samples from different probability distributions, including uniform,exponential,normal poisson and erlang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though there is no automatic collection of statistics of simula 67 a procedure accum is vailable to accumulate the simulated time integral of any variable desired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09:14:03Z</dcterms:created>
  <dc:creator>sri</dc:creator>
  <dc:description/>
  <dc:language>en-US</dc:language>
  <cp:lastModifiedBy>Manjula</cp:lastModifiedBy>
  <dcterms:modified xsi:type="dcterms:W3CDTF">2011-03-19T16:42:37Z</dcterms:modified>
  <cp:revision>6</cp:revision>
  <dc:subject/>
  <dc:title>Slide 1</dc:title>
</cp:coreProperties>
</file>