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CF87-0E34-4A45-BD1C-B2AC4EF07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CDB3-45F4-48C2-8099-08E560D4D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64FE-0796-4353-B357-6C97825FA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A06D-C12F-4DCB-97DF-6A9AD9ECF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9781-1EEC-4DE4-8866-FE4B7A44A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284B-0CC0-418C-B01B-E448EEB82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90A5-4C36-4097-89C9-54439A12D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C872-16B8-49F7-A016-62D0EE318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1B28-FE3F-46FD-9781-0F8C05733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5396-9A2A-487C-9069-2F10F268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9FC6-4057-4ECA-950D-6896F8A4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03DF-072F-41F3-AE97-1BD12F63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A56928-5647-410C-9EBB-53EC6D080F6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39680" y="6383160"/>
            <a:ext cx="139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C9C1C3-CE80-4A37-BBE9-FA784537818E}" type="slidenum">
              <a:rPr b="1" lang="en-US" sz="18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image" Target="../media/image3.png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8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9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0T13:38:40Z</dcterms:created>
  <dc:creator>최봉수</dc:creator>
  <dc:description/>
  <dc:language>en-US</dc:language>
  <cp:lastModifiedBy>맛있다 군만두</cp:lastModifiedBy>
  <dcterms:modified xsi:type="dcterms:W3CDTF">2024-09-24T07:56:09Z</dcterms:modified>
  <cp:revision>4</cp:revision>
  <dc:subject/>
  <dc:title>슬라이드 1</dc:title>
</cp:coreProperties>
</file>