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6FC-C6A1-4985-B508-2D47BBAF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C67-9157-4F54-B995-1C8EE291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D8E-2804-4FCC-81E0-5EB7E013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966-D46D-41FD-ADED-F2EC28E6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763-1606-48F5-A9E6-F6C8E93B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F0B-B156-4630-AF92-A02FE4A3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926-2692-45FE-9BC2-12CAEE01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8E4-CFC7-4593-9226-08195D55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B67-C550-4E9F-9533-4C54E1B6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ED4-2E9F-4AFF-A53B-D796355E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882-56B8-487C-9E8C-7EC149C1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DBF-2CD5-48F7-AC7E-2FFCCE3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0D687-B43A-4F60-8BC6-BEA0566B04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39680" y="638316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B7426-174A-4E66-AB79-3A7BAA35EC4A}" type="slidenum">
              <a:rPr b="1" lang="en-US" sz="18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3:38:40Z</dcterms:created>
  <dc:creator>최봉수</dc:creator>
  <dc:description/>
  <dc:language>en-US</dc:language>
  <cp:lastModifiedBy>맛있다 군만두</cp:lastModifiedBy>
  <dcterms:modified xsi:type="dcterms:W3CDTF">2024-09-24T07:56:09Z</dcterms:modified>
  <cp:revision>4</cp:revision>
  <dc:subject/>
  <dc:title>슬라이드 1</dc:title>
</cp:coreProperties>
</file>