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30B-3F1D-461A-822F-22B5E6DE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73F-FACA-4CA8-A90F-A6CA8312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F5C-725F-4837-860A-13627237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F4E-3AD2-49BB-98C3-CDE68B1D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E5D-4C52-4D58-9740-78820690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955-5D8D-433A-95FE-39F11B30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30B6-D625-4553-9EFA-74C5DCF3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D42-AC7F-49FA-BBF5-BEF11582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C6D-70C3-483D-B947-F22A65D2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092-8CF4-4F2B-83AB-95B11D7A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345-06DD-4A0A-B87E-BE5BCE13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66F-BB93-46E4-AE8F-2EB842CD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732F-C0C6-4E4D-860D-6535E2E99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6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-39600"/>
            <a:ext cx="75247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7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45796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69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4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2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708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6000" y="0"/>
            <a:ext cx="860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24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6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84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9080" y="0"/>
            <a:ext cx="860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8:08:44Z</dcterms:created>
  <dc:creator>Darina</dc:creator>
  <dc:description/>
  <dc:language>en-US</dc:language>
  <cp:lastModifiedBy>Smets</cp:lastModifiedBy>
  <dcterms:modified xsi:type="dcterms:W3CDTF">2008-09-21T07:18:24Z</dcterms:modified>
  <cp:revision>3</cp:revision>
  <dc:subject/>
  <dc:title>Slide 1</dc:title>
</cp:coreProperties>
</file>