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31CA-49C1-4E04-ADAE-7539B7E6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9687-C4BF-46E6-9051-C516BB07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EBF7-AD73-4DC4-B76B-9F9894A8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B95C-2CC0-426B-8266-E1BA7F31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6ABA-F553-49CC-8E03-269643BD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EF9A-D19E-4571-818C-48829CEC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460-8847-4F09-AEEA-9582DD2B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3749-2E80-4E28-A8F5-5DC88184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372D-119A-423A-861E-8903767D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A9AB-1E60-4A93-819B-F6AB75DF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6A69-2CFC-4E6B-8017-5431998E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A7C-F64D-440B-A2F5-D3827818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C93B-3291-42A8-BC20-773670080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6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-39600"/>
            <a:ext cx="752472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76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45796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469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4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62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708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979640" y="5877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6000" y="0"/>
            <a:ext cx="860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24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6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84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9080" y="0"/>
            <a:ext cx="860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08:08:44Z</dcterms:created>
  <dc:creator>Darina</dc:creator>
  <dc:description/>
  <dc:language>en-US</dc:language>
  <cp:lastModifiedBy>Smets</cp:lastModifiedBy>
  <dcterms:modified xsi:type="dcterms:W3CDTF">2008-09-21T07:18:24Z</dcterms:modified>
  <cp:revision>3</cp:revision>
  <dc:subject/>
  <dc:title>Slide 1</dc:title>
</cp:coreProperties>
</file>