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10.jpeg" ContentType="image/jpeg"/>
  <Override PartName="/ppt/media/image35.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84AEF-1B83-42CC-9074-3FF453313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72334-5387-46F2-BD5F-35B77E45D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53EF9-483C-4456-A2DD-887C9715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2687D-91FB-4F3F-940E-052AF1AD0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7C9BDD-2B1E-4782-94AE-65E2A8C36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DB541F-AC82-4472-AFDE-05D6650CC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D89111-69B4-409F-88B5-9DB5CECF0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43B6DA-698E-43D9-910E-6E18731B1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66D89C-7FFD-4A55-AE9E-05D6A953D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7CAB2C-5C72-4234-831E-62736D07E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2FDA5B-0F30-47D1-A058-44243322E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9655-5987-419F-9DE3-6AAAF5D4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837779-39B1-4597-B4F6-FFE42A763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253460-64D5-45CB-A4E1-EB48D622C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AB9965-0056-44E7-8420-A4DF1D07A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D5397D-079E-4368-AA3E-75C95D044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9E52C5-2FC1-4011-AAEF-E619089F2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AD99-9AC0-4BC2-8013-BD799E1F6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543D4-3D06-432B-9512-D684CA515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9602-B8F4-4E98-AD4A-80AA8C819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87F54-1252-4371-91E1-061ED3D97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FA40-E141-40D0-B524-7EDF8D45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4247-87AC-4977-92BF-8945EB60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384F-B0DF-4296-B0B7-186B7621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7833-9915-4068-A098-CC7B586322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0065-32FB-44C1-8B3B-9A45CF88CB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Times New Roman"/>
              </a:rPr>
              <a:t>039. Kodaikanal Darshan 1st 2nd and 3rd May 2009</a:t>
            </a:r>
            <a:endParaRPr b="0" lang="en-US" sz="2400" spc="-1" strike="noStrike">
              <a:solidFill>
                <a:srgbClr val="e3e3ff"/>
              </a:solidFill>
              <a:latin typeface="Arial"/>
            </a:endParaRPr>
          </a:p>
        </p:txBody>
      </p:sp>
      <p:sp>
        <p:nvSpPr>
          <p:cNvPr id="123" name=""/>
          <p:cNvSpPr txBox="1"/>
          <p:nvPr/>
        </p:nvSpPr>
        <p:spPr>
          <a:xfrm>
            <a:off x="838080" y="990720"/>
            <a:ext cx="708660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Times New Roman"/>
              </a:rPr>
              <a:t>Aum Jai Sai Ram</a:t>
            </a:r>
            <a:endParaRPr b="1" lang="en-US" sz="24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
        <p:nvSpPr>
          <p:cNvPr id="124" name=""/>
          <p:cNvSpPr txBox="1"/>
          <p:nvPr/>
        </p:nvSpPr>
        <p:spPr>
          <a:xfrm>
            <a:off x="914400" y="1998720"/>
            <a:ext cx="7696080" cy="34876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Times New Roman"/>
              </a:rPr>
              <a:t>My Humble Pranams at th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Times New Roman"/>
              </a:rPr>
              <a:t>Divine Lotus Feet of Swami.</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Times New Roman"/>
              </a:rPr>
              <a:t>May Mother Sai Bless Us In </a:t>
            </a:r>
            <a:endParaRPr b="1"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Times New Roman"/>
              </a:rPr>
              <a:t>Our Daily Walk With Her.</a:t>
            </a:r>
            <a:endParaRPr b="1" lang="en-US" sz="24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Times New Roman"/>
              <a:ea typeface="Times New Roman"/>
            </a:endParaRPr>
          </a:p>
        </p:txBody>
      </p:sp>
      <p:pic>
        <p:nvPicPr>
          <p:cNvPr id="125" name="" descr=""/>
          <p:cNvPicPr/>
          <p:nvPr/>
        </p:nvPicPr>
        <p:blipFill>
          <a:blip r:embed="rId10"/>
          <a:stretch/>
        </p:blipFill>
        <p:spPr>
          <a:xfrm>
            <a:off x="152280" y="228600"/>
            <a:ext cx="304920" cy="304920"/>
          </a:xfrm>
          <a:prstGeom prst="rect">
            <a:avLst/>
          </a:prstGeom>
          <a:ln w="0">
            <a:noFill/>
          </a:ln>
        </p:spPr>
      </p:pic>
    </p:spTree>
  </p:cSld>
  <p:transition spd="slow" advTm="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ake part in bhajans whole heartedly and sing the glory of God. Even if you are not able to do any other spiritual practice, chant the name of God. That is enough.</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You cannot attain peace and happiness without bhajan. Peace can be attained only through bhajan and not by any other means. "Hari Nam Bina Ananda Nahin (You cannot attain bliss without chanting the name of Hari (God))." "Japa Dhyana Bina Samyoga Nahin (You cannot have union with God without performing japa and dhyana)." </a:t>
            </a:r>
            <a:endParaRPr b="0" lang="en-US" sz="2000" spc="-1" strike="noStrike">
              <a:solidFill>
                <a:srgbClr val="ffffff"/>
              </a:solidFill>
              <a:latin typeface="Arial"/>
            </a:endParaRPr>
          </a:p>
        </p:txBody>
      </p:sp>
    </p:spTree>
  </p:cSld>
  <p:transition spd="slow" advTm="4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562720" y="609480"/>
            <a:ext cx="3174840" cy="3340080"/>
          </a:xfrm>
          <a:prstGeom prst="rect">
            <a:avLst/>
          </a:prstGeom>
          <a:ln w="0">
            <a:noFill/>
          </a:ln>
        </p:spPr>
      </p:pic>
      <p:sp>
        <p:nvSpPr>
          <p:cNvPr id="127" name=""/>
          <p:cNvSpPr/>
          <p:nvPr/>
        </p:nvSpPr>
        <p:spPr>
          <a:xfrm>
            <a:off x="228600" y="1074240"/>
            <a:ext cx="5029200" cy="109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600" spc="-1" strike="noStrike">
                <a:solidFill>
                  <a:srgbClr val="ffffff"/>
                </a:solidFill>
                <a:latin typeface="Times New Roman"/>
              </a:rPr>
              <a:t>OM PREMAATHMANAAYA VIDHMAHE                              HIRANYAGARBHAAYA DHEEMAHI</a:t>
            </a:r>
            <a:br>
              <a:rPr sz="1600"/>
            </a:br>
            <a:r>
              <a:rPr b="1" lang="en-US" sz="1600" spc="-1" strike="noStrike">
                <a:solidFill>
                  <a:srgbClr val="ffffff"/>
                </a:solidFill>
                <a:latin typeface="Times New Roman"/>
              </a:rPr>
              <a:t>           THANNAHSATHYAHPRACHODHAYAATH                                 </a:t>
            </a:r>
            <a:endParaRPr b="0" lang="en-US" sz="1600" spc="-1" strike="noStrike">
              <a:solidFill>
                <a:srgbClr val="ffffff"/>
              </a:solidFill>
              <a:latin typeface="Arial"/>
            </a:endParaRPr>
          </a:p>
        </p:txBody>
      </p:sp>
      <p:sp>
        <p:nvSpPr>
          <p:cNvPr id="128" name=""/>
          <p:cNvSpPr/>
          <p:nvPr/>
        </p:nvSpPr>
        <p:spPr>
          <a:xfrm>
            <a:off x="990720" y="3846600"/>
            <a:ext cx="4041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galam Guru Devaaya,</a:t>
            </a:r>
            <a:br>
              <a:rPr sz="1600"/>
            </a:br>
            <a:r>
              <a:rPr b="1" lang="en-US" sz="1600" spc="-1" strike="noStrike">
                <a:solidFill>
                  <a:srgbClr val="ffffff"/>
                </a:solidFill>
                <a:latin typeface="Times New Roman"/>
              </a:rPr>
              <a:t>Mangalam Gyan Dayine,</a:t>
            </a:r>
            <a:br>
              <a:rPr sz="1600"/>
            </a:br>
            <a:r>
              <a:rPr b="1" lang="en-US" sz="1600" spc="-1" strike="noStrike">
                <a:solidFill>
                  <a:srgbClr val="ffffff"/>
                </a:solidFill>
                <a:latin typeface="Times New Roman"/>
              </a:rPr>
              <a:t>Mangalam Parthi Vasaaya,</a:t>
            </a:r>
            <a:br>
              <a:rPr sz="1600"/>
            </a:br>
            <a:r>
              <a:rPr b="1" lang="en-US" sz="1600" spc="-1" strike="noStrike">
                <a:solidFill>
                  <a:srgbClr val="ffffff"/>
                </a:solidFill>
                <a:latin typeface="Times New Roman"/>
              </a:rPr>
              <a:t>Mangalam Sathya Sai Ne.</a:t>
            </a:r>
            <a:br>
              <a:rPr sz="1600"/>
            </a:br>
            <a:r>
              <a:rPr b="1" lang="en-US" sz="1600" spc="-1" strike="noStrike">
                <a:solidFill>
                  <a:srgbClr val="ffffff"/>
                </a:solidFill>
                <a:latin typeface="Times New Roman"/>
              </a:rPr>
              <a:t>Om Shanthi Shanthi Shant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advTm="2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09680" y="152280"/>
            <a:ext cx="4643640" cy="6357960"/>
          </a:xfrm>
          <a:prstGeom prst="rect">
            <a:avLst/>
          </a:prstGeom>
          <a:ln w="0">
            <a:noFill/>
          </a:ln>
        </p:spPr>
      </p:pic>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90880" y="380880"/>
            <a:ext cx="4962240" cy="6096240"/>
          </a:xfrm>
          <a:prstGeom prst="rect">
            <a:avLst/>
          </a:prstGeom>
          <a:ln w="0">
            <a:noFill/>
          </a:ln>
        </p:spPr>
      </p:pic>
    </p:spTree>
  </p:cSld>
  <p:transition spd="slow" advTm="3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ay the Merciful Sri Sai Baba always shower His grace on us and our families and remove our problems and anxieties by giving us all - strength , good luck, success and happiness with peace of min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Kara Charana Kritham Vaak Kaayajam Karmajam Vaa</a:t>
            </a:r>
            <a:br>
              <a:rPr sz="2000"/>
            </a:br>
            <a:r>
              <a:rPr b="1" lang="en-US" sz="2000" spc="-1" strike="noStrike">
                <a:solidFill>
                  <a:srgbClr val="ffffff"/>
                </a:solidFill>
                <a:latin typeface="Times New Roman"/>
              </a:rPr>
              <a:t> Sravana Nayanajam Vaa Maanasam Vaa Aparadham</a:t>
            </a:r>
            <a:br>
              <a:rPr sz="2000"/>
            </a:br>
            <a:r>
              <a:rPr b="1" lang="en-US" sz="2000" spc="-1" strike="noStrike">
                <a:solidFill>
                  <a:srgbClr val="ffffff"/>
                </a:solidFill>
                <a:latin typeface="Times New Roman"/>
              </a:rPr>
              <a:t> Vihitham Avihitham Vaa Sarvametat Kshamasva</a:t>
            </a:r>
            <a:br>
              <a:rPr sz="2000"/>
            </a:br>
            <a:r>
              <a:rPr b="1" lang="en-US" sz="2000" spc="-1" strike="noStrike">
                <a:solidFill>
                  <a:srgbClr val="ffffff"/>
                </a:solidFill>
                <a:latin typeface="Times New Roman"/>
              </a:rPr>
              <a:t> Jaya Jaya Karunaabdhe Sri Maha Deva Shambho</a:t>
            </a:r>
            <a:br>
              <a:rPr sz="2000"/>
            </a:b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amasta Loka Sukhino Bhawantu.</a:t>
            </a:r>
            <a:br>
              <a:rPr sz="2000"/>
            </a:br>
            <a:r>
              <a:rPr b="1" lang="en-US" sz="2000" spc="-1" strike="noStrike">
                <a:solidFill>
                  <a:srgbClr val="ffffff"/>
                </a:solidFill>
                <a:latin typeface="Times New Roman"/>
              </a:rPr>
              <a:t>   Samasta Loka Sukhino Bhawantu,</a:t>
            </a:r>
            <a:br>
              <a:rPr sz="2000"/>
            </a:br>
            <a:r>
              <a:rPr b="1" lang="en-US" sz="2000" spc="-1" strike="noStrike">
                <a:solidFill>
                  <a:srgbClr val="ffffff"/>
                </a:solidFill>
                <a:latin typeface="Times New Roman"/>
              </a:rPr>
              <a:t>   Samasta Loka Sukhino Bhawantu.</a:t>
            </a:r>
            <a:br>
              <a:rPr sz="2000"/>
            </a:b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m Jai Sai Ram</a:t>
            </a:r>
            <a:endParaRPr b="0" lang="en-US" sz="2000" spc="-1" strike="noStrike">
              <a:solidFill>
                <a:srgbClr val="ffffff"/>
              </a:solidFill>
              <a:latin typeface="Arial"/>
            </a:endParaRPr>
          </a:p>
        </p:txBody>
      </p:sp>
    </p:spTree>
  </p:cSld>
  <p:transition spd="slow" advTm="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29:42Z</dcterms:created>
  <dc:creator>user</dc:creator>
  <dc:description/>
  <dc:language>en-US</dc:language>
  <cp:lastModifiedBy>user</cp:lastModifiedBy>
  <dcterms:modified xsi:type="dcterms:W3CDTF">2009-05-06T03:29:33Z</dcterms:modified>
  <cp:revision>6</cp:revision>
  <dc:subject/>
  <dc:title>039. Kodaikanal Darshan 1st 2nd and 3rd May 2009</dc:title>
</cp:coreProperties>
</file>